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76F4-272A-40D6-A306-8ED99C46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4EBA-7897-4ED2-9E9A-2BAB1439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F948-ACCD-4713-A07B-98E0725A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BA5A-7B00-462D-A4D9-86FE3173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7AAF-7DB0-42D1-880B-115A6E8B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A266-0077-47E2-B0A2-197D7B8D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95B2-FEAA-42C4-B2F3-453F1832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6993-47E6-4130-8DF1-93C70C78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00A-1D8E-4FCE-84A3-DBD20553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94BB-E961-4DA6-8778-4D829264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D6AC-ACA9-4A3A-8EFB-6BA1B5D8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B77-5955-4A3C-B5D0-D1B0D9E3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D7E2-9330-4C4F-85D6-01A836321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w-Power SRAM U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0.6 um 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drew Ashwo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onathan C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tt Willi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acted parasitic capacitances from layout to build accurate array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d model of one block to represent entire arr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an with worst case 50C and SS to find stable c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RAM correctly performed a write followed by a read at all process corners, and temper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VDD is scaled down, leakage power decreases by orders of magnitude. We have no reliable numbers as power simulations returned unrealistic results for 5V VD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graph.PNG"/>
          <p:cNvPicPr/>
          <p:nvPr/>
        </p:nvPicPr>
        <p:blipFill>
          <a:blip r:embed="rId1"/>
          <a:stretch/>
        </p:blipFill>
        <p:spPr>
          <a:xfrm>
            <a:off x="914400" y="1219320"/>
            <a:ext cx="7157880" cy="512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r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Size: about 500mm^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erage Power: about 9m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ay: about 35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Metric: 1.458 mill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5" name="Picture 3" descr="C:\Documents and Settings\mcw8d\Local Settings\Temporary Internet Files\Content.IE5\RLTX3P6Z\MCj03977760000[1].wmf"/>
          <p:cNvPicPr/>
          <p:nvPr/>
        </p:nvPicPr>
        <p:blipFill>
          <a:blip r:embed="rId1"/>
          <a:stretch/>
        </p:blipFill>
        <p:spPr>
          <a:xfrm>
            <a:off x="3657600" y="3505320"/>
            <a:ext cx="1917720" cy="157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rics: Power(mW), Delay(ns), Area(m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Power SRAM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tal powe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* delay * are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RAM size of 1 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d size of 32 b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read or one write access per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-phase non-overlapping clock gener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2"/>
          <p:cNvGrpSpPr/>
          <p:nvPr/>
        </p:nvGrpSpPr>
        <p:grpSpPr>
          <a:xfrm>
            <a:off x="2743200" y="2438280"/>
            <a:ext cx="3895560" cy="2590920"/>
            <a:chOff x="2743200" y="2438280"/>
            <a:chExt cx="3895560" cy="2590920"/>
          </a:xfrm>
        </p:grpSpPr>
        <p:sp>
          <p:nvSpPr>
            <p:cNvPr id="48" name="Rectangle 3"/>
            <p:cNvSpPr/>
            <p:nvPr/>
          </p:nvSpPr>
          <p:spPr>
            <a:xfrm>
              <a:off x="2743200" y="2438280"/>
              <a:ext cx="3895560" cy="259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Text Box 4"/>
            <p:cNvSpPr/>
            <p:nvPr/>
          </p:nvSpPr>
          <p:spPr>
            <a:xfrm>
              <a:off x="2836080" y="2850840"/>
              <a:ext cx="358200" cy="232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CLK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" name="Group 5"/>
            <p:cNvGrpSpPr/>
            <p:nvPr/>
          </p:nvGrpSpPr>
          <p:grpSpPr>
            <a:xfrm>
              <a:off x="3213720" y="2839680"/>
              <a:ext cx="2831400" cy="1806840"/>
              <a:chOff x="3213720" y="2839680"/>
              <a:chExt cx="2831400" cy="1806840"/>
            </a:xfrm>
          </p:grpSpPr>
          <p:grpSp>
            <p:nvGrpSpPr>
              <p:cNvPr id="51" name="Group 6"/>
              <p:cNvGrpSpPr/>
              <p:nvPr/>
            </p:nvGrpSpPr>
            <p:grpSpPr>
              <a:xfrm>
                <a:off x="3213720" y="2949480"/>
                <a:ext cx="2831400" cy="1582200"/>
                <a:chOff x="3213720" y="2949480"/>
                <a:chExt cx="2831400" cy="1582200"/>
              </a:xfrm>
            </p:grpSpPr>
            <p:cxnSp>
              <p:nvCxnSpPr>
                <p:cNvPr id="52" name="AutoShape 7"/>
                <p:cNvCxnSpPr/>
                <p:nvPr/>
              </p:nvCxnSpPr>
              <p:spPr>
                <a:xfrm>
                  <a:off x="3213720" y="2949840"/>
                  <a:ext cx="137268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3" name="AutoShape 8"/>
                <p:cNvCxnSpPr/>
                <p:nvPr/>
              </p:nvCxnSpPr>
              <p:spPr>
                <a:xfrm>
                  <a:off x="3355200" y="3979080"/>
                  <a:ext cx="11628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4" name="AutoShape 9"/>
                <p:cNvCxnSpPr/>
                <p:nvPr/>
              </p:nvCxnSpPr>
              <p:spPr>
                <a:xfrm flipV="1">
                  <a:off x="3355200" y="2949480"/>
                  <a:ext cx="1080" cy="10299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5" name="AutoShape 10"/>
                <p:cNvCxnSpPr/>
                <p:nvPr/>
              </p:nvCxnSpPr>
              <p:spPr>
                <a:xfrm flipH="1">
                  <a:off x="4149360" y="4530960"/>
                  <a:ext cx="9025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6" name="AutoShape 11"/>
                <p:cNvCxnSpPr/>
                <p:nvPr/>
              </p:nvCxnSpPr>
              <p:spPr>
                <a:xfrm flipV="1">
                  <a:off x="4143240" y="4088880"/>
                  <a:ext cx="1080" cy="442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7" name="AutoShape 12"/>
                <p:cNvCxnSpPr/>
                <p:nvPr/>
              </p:nvCxnSpPr>
              <p:spPr>
                <a:xfrm>
                  <a:off x="4143240" y="4082760"/>
                  <a:ext cx="3006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8" name="AutoShape 13"/>
                <p:cNvCxnSpPr/>
                <p:nvPr/>
              </p:nvCxnSpPr>
              <p:spPr>
                <a:xfrm flipH="1">
                  <a:off x="4156200" y="3526200"/>
                  <a:ext cx="774720" cy="1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9" name="AutoShape 14"/>
                <p:cNvCxnSpPr/>
                <p:nvPr/>
              </p:nvCxnSpPr>
              <p:spPr>
                <a:xfrm flipV="1">
                  <a:off x="4149720" y="3064320"/>
                  <a:ext cx="1080" cy="461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0" name="AutoShape 15"/>
                <p:cNvCxnSpPr/>
                <p:nvPr/>
              </p:nvCxnSpPr>
              <p:spPr>
                <a:xfrm>
                  <a:off x="4149720" y="3058200"/>
                  <a:ext cx="3006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1" name="AutoShape 16"/>
                <p:cNvCxnSpPr/>
                <p:nvPr/>
              </p:nvCxnSpPr>
              <p:spPr>
                <a:xfrm>
                  <a:off x="4669560" y="4021920"/>
                  <a:ext cx="13759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2" name="AutoShape 17"/>
                <p:cNvCxnSpPr/>
                <p:nvPr/>
              </p:nvCxnSpPr>
              <p:spPr>
                <a:xfrm>
                  <a:off x="4669560" y="3007800"/>
                  <a:ext cx="13759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3" name="AutoShape 18"/>
                <p:cNvCxnSpPr/>
                <p:nvPr/>
              </p:nvCxnSpPr>
              <p:spPr>
                <a:xfrm>
                  <a:off x="4930200" y="3526200"/>
                  <a:ext cx="1080" cy="496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4" name="AutoShape 19"/>
                <p:cNvCxnSpPr/>
                <p:nvPr/>
              </p:nvCxnSpPr>
              <p:spPr>
                <a:xfrm flipV="1">
                  <a:off x="5051880" y="3007800"/>
                  <a:ext cx="1080" cy="1523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65" name="Group 20"/>
              <p:cNvGrpSpPr/>
              <p:nvPr/>
            </p:nvGrpSpPr>
            <p:grpSpPr>
              <a:xfrm>
                <a:off x="3433320" y="2839680"/>
                <a:ext cx="2421720" cy="1806840"/>
                <a:chOff x="3433320" y="2839680"/>
                <a:chExt cx="2421720" cy="1806840"/>
              </a:xfrm>
            </p:grpSpPr>
            <p:grpSp>
              <p:nvGrpSpPr>
                <p:cNvPr id="66" name="Group 21"/>
                <p:cNvGrpSpPr/>
                <p:nvPr/>
              </p:nvGrpSpPr>
              <p:grpSpPr>
                <a:xfrm>
                  <a:off x="3433320" y="2839680"/>
                  <a:ext cx="499680" cy="222120"/>
                  <a:chOff x="3433320" y="2839680"/>
                  <a:chExt cx="499680" cy="222120"/>
                </a:xfrm>
              </p:grpSpPr>
              <p:grpSp>
                <p:nvGrpSpPr>
                  <p:cNvPr id="67" name="Group 22"/>
                  <p:cNvGrpSpPr/>
                  <p:nvPr/>
                </p:nvGrpSpPr>
                <p:grpSpPr>
                  <a:xfrm>
                    <a:off x="3433320" y="2839680"/>
                    <a:ext cx="243360" cy="222120"/>
                    <a:chOff x="3433320" y="2839680"/>
                    <a:chExt cx="243360" cy="222120"/>
                  </a:xfrm>
                </p:grpSpPr>
                <p:sp>
                  <p:nvSpPr>
                    <p:cNvPr id="68" name="AutoShape 23"/>
                    <p:cNvSpPr/>
                    <p:nvPr/>
                  </p:nvSpPr>
                  <p:spPr>
                    <a:xfrm rot="5400000">
                      <a:off x="3418200" y="2854440"/>
                      <a:ext cx="22212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" name="Oval 24"/>
                    <p:cNvSpPr/>
                    <p:nvPr/>
                  </p:nvSpPr>
                  <p:spPr>
                    <a:xfrm>
                      <a:off x="3619440" y="292140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70" name="Group 25"/>
                  <p:cNvGrpSpPr/>
                  <p:nvPr/>
                </p:nvGrpSpPr>
                <p:grpSpPr>
                  <a:xfrm>
                    <a:off x="3689640" y="2839680"/>
                    <a:ext cx="243360" cy="222120"/>
                    <a:chOff x="3689640" y="2839680"/>
                    <a:chExt cx="243360" cy="222120"/>
                  </a:xfrm>
                </p:grpSpPr>
                <p:sp>
                  <p:nvSpPr>
                    <p:cNvPr id="71" name="AutoShape 26"/>
                    <p:cNvSpPr/>
                    <p:nvPr/>
                  </p:nvSpPr>
                  <p:spPr>
                    <a:xfrm rot="5400000">
                      <a:off x="3674520" y="2854440"/>
                      <a:ext cx="22212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2" name="Oval 27"/>
                    <p:cNvSpPr/>
                    <p:nvPr/>
                  </p:nvSpPr>
                  <p:spPr>
                    <a:xfrm>
                      <a:off x="3875760" y="292140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73" name="Group 28"/>
                <p:cNvGrpSpPr/>
                <p:nvPr/>
              </p:nvGrpSpPr>
              <p:grpSpPr>
                <a:xfrm>
                  <a:off x="3760920" y="3867480"/>
                  <a:ext cx="243000" cy="222480"/>
                  <a:chOff x="3760920" y="3867480"/>
                  <a:chExt cx="243000" cy="222480"/>
                </a:xfrm>
              </p:grpSpPr>
              <p:sp>
                <p:nvSpPr>
                  <p:cNvPr id="74" name="AutoShape 29"/>
                  <p:cNvSpPr/>
                  <p:nvPr/>
                </p:nvSpPr>
                <p:spPr>
                  <a:xfrm rot="5400000">
                    <a:off x="3745800" y="3882600"/>
                    <a:ext cx="222480" cy="1922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" name="Oval 30"/>
                  <p:cNvSpPr/>
                  <p:nvPr/>
                </p:nvSpPr>
                <p:spPr>
                  <a:xfrm>
                    <a:off x="3946680" y="3948840"/>
                    <a:ext cx="57240" cy="57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6" name="Group 31"/>
                <p:cNvGrpSpPr/>
                <p:nvPr/>
              </p:nvGrpSpPr>
              <p:grpSpPr>
                <a:xfrm>
                  <a:off x="4349160" y="2870280"/>
                  <a:ext cx="440280" cy="281520"/>
                  <a:chOff x="4349160" y="2870280"/>
                  <a:chExt cx="440280" cy="281520"/>
                </a:xfrm>
              </p:grpSpPr>
              <p:sp>
                <p:nvSpPr>
                  <p:cNvPr id="77" name="AutoShape 32"/>
                  <p:cNvSpPr/>
                  <p:nvPr/>
                </p:nvSpPr>
                <p:spPr>
                  <a:xfrm flipH="1">
                    <a:off x="4349160" y="2870280"/>
                    <a:ext cx="383040" cy="281520"/>
                  </a:xfrm>
                  <a:prstGeom prst="flowChartOnlineStorag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" name="Oval 33"/>
                  <p:cNvSpPr/>
                  <p:nvPr/>
                </p:nvSpPr>
                <p:spPr>
                  <a:xfrm>
                    <a:off x="4732200" y="2981880"/>
                    <a:ext cx="57240" cy="57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9" name="Group 34"/>
                <p:cNvGrpSpPr/>
                <p:nvPr/>
              </p:nvGrpSpPr>
              <p:grpSpPr>
                <a:xfrm>
                  <a:off x="4349160" y="3886920"/>
                  <a:ext cx="440280" cy="281520"/>
                  <a:chOff x="4349160" y="3886920"/>
                  <a:chExt cx="440280" cy="281520"/>
                </a:xfrm>
              </p:grpSpPr>
              <p:sp>
                <p:nvSpPr>
                  <p:cNvPr id="80" name="AutoShape 35"/>
                  <p:cNvSpPr/>
                  <p:nvPr/>
                </p:nvSpPr>
                <p:spPr>
                  <a:xfrm flipH="1">
                    <a:off x="4349160" y="3886920"/>
                    <a:ext cx="383040" cy="281520"/>
                  </a:xfrm>
                  <a:prstGeom prst="flowChartOnlineStorag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" name="Oval 36"/>
                  <p:cNvSpPr/>
                  <p:nvPr/>
                </p:nvSpPr>
                <p:spPr>
                  <a:xfrm>
                    <a:off x="4732200" y="3998520"/>
                    <a:ext cx="57240" cy="57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2" name="Group 37"/>
                <p:cNvGrpSpPr/>
                <p:nvPr/>
              </p:nvGrpSpPr>
              <p:grpSpPr>
                <a:xfrm>
                  <a:off x="4349160" y="4420800"/>
                  <a:ext cx="493200" cy="225720"/>
                  <a:chOff x="4349160" y="4420800"/>
                  <a:chExt cx="493200" cy="225720"/>
                </a:xfrm>
              </p:grpSpPr>
              <p:grpSp>
                <p:nvGrpSpPr>
                  <p:cNvPr id="83" name="Group 38"/>
                  <p:cNvGrpSpPr/>
                  <p:nvPr/>
                </p:nvGrpSpPr>
                <p:grpSpPr>
                  <a:xfrm>
                    <a:off x="4599000" y="4424040"/>
                    <a:ext cx="243360" cy="222480"/>
                    <a:chOff x="4599000" y="4424040"/>
                    <a:chExt cx="243360" cy="222480"/>
                  </a:xfrm>
                </p:grpSpPr>
                <p:sp>
                  <p:nvSpPr>
                    <p:cNvPr id="84" name="AutoShape 39"/>
                    <p:cNvSpPr/>
                    <p:nvPr/>
                  </p:nvSpPr>
                  <p:spPr>
                    <a:xfrm flipH="1" rot="16200000">
                      <a:off x="4635000" y="443916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5" name="Oval 40"/>
                    <p:cNvSpPr/>
                    <p:nvPr/>
                  </p:nvSpPr>
                  <p:spPr>
                    <a:xfrm flipH="1">
                      <a:off x="4598640" y="450576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86" name="Group 41"/>
                  <p:cNvGrpSpPr/>
                  <p:nvPr/>
                </p:nvGrpSpPr>
                <p:grpSpPr>
                  <a:xfrm>
                    <a:off x="4349160" y="4420800"/>
                    <a:ext cx="243360" cy="222480"/>
                    <a:chOff x="4349160" y="4420800"/>
                    <a:chExt cx="243360" cy="222480"/>
                  </a:xfrm>
                </p:grpSpPr>
                <p:sp>
                  <p:nvSpPr>
                    <p:cNvPr id="87" name="AutoShape 42"/>
                    <p:cNvSpPr/>
                    <p:nvPr/>
                  </p:nvSpPr>
                  <p:spPr>
                    <a:xfrm flipH="1" rot="16200000">
                      <a:off x="4385160" y="443592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8" name="Oval 43"/>
                    <p:cNvSpPr/>
                    <p:nvPr/>
                  </p:nvSpPr>
                  <p:spPr>
                    <a:xfrm flipH="1">
                      <a:off x="4348800" y="450252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89" name="Group 44"/>
                <p:cNvGrpSpPr/>
                <p:nvPr/>
              </p:nvGrpSpPr>
              <p:grpSpPr>
                <a:xfrm>
                  <a:off x="5361840" y="2891160"/>
                  <a:ext cx="493200" cy="225360"/>
                  <a:chOff x="5361840" y="2891160"/>
                  <a:chExt cx="493200" cy="225360"/>
                </a:xfrm>
              </p:grpSpPr>
              <p:grpSp>
                <p:nvGrpSpPr>
                  <p:cNvPr id="90" name="Group 45"/>
                  <p:cNvGrpSpPr/>
                  <p:nvPr/>
                </p:nvGrpSpPr>
                <p:grpSpPr>
                  <a:xfrm>
                    <a:off x="5361840" y="2894040"/>
                    <a:ext cx="243360" cy="222480"/>
                    <a:chOff x="5361840" y="2894040"/>
                    <a:chExt cx="243360" cy="222480"/>
                  </a:xfrm>
                </p:grpSpPr>
                <p:sp>
                  <p:nvSpPr>
                    <p:cNvPr id="91" name="AutoShape 46"/>
                    <p:cNvSpPr/>
                    <p:nvPr/>
                  </p:nvSpPr>
                  <p:spPr>
                    <a:xfrm rot="5400000">
                      <a:off x="5346720" y="290916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2" name="Oval 47"/>
                    <p:cNvSpPr/>
                    <p:nvPr/>
                  </p:nvSpPr>
                  <p:spPr>
                    <a:xfrm>
                      <a:off x="5547960" y="297576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93" name="Group 48"/>
                  <p:cNvGrpSpPr/>
                  <p:nvPr/>
                </p:nvGrpSpPr>
                <p:grpSpPr>
                  <a:xfrm>
                    <a:off x="5611680" y="2891160"/>
                    <a:ext cx="243360" cy="222480"/>
                    <a:chOff x="5611680" y="2891160"/>
                    <a:chExt cx="243360" cy="222480"/>
                  </a:xfrm>
                </p:grpSpPr>
                <p:sp>
                  <p:nvSpPr>
                    <p:cNvPr id="94" name="AutoShape 49"/>
                    <p:cNvSpPr/>
                    <p:nvPr/>
                  </p:nvSpPr>
                  <p:spPr>
                    <a:xfrm rot="5400000">
                      <a:off x="5596560" y="290628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5" name="Oval 50"/>
                    <p:cNvSpPr/>
                    <p:nvPr/>
                  </p:nvSpPr>
                  <p:spPr>
                    <a:xfrm>
                      <a:off x="5797800" y="297288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96" name="Group 51"/>
                <p:cNvGrpSpPr/>
                <p:nvPr/>
              </p:nvGrpSpPr>
              <p:grpSpPr>
                <a:xfrm>
                  <a:off x="5361840" y="3906360"/>
                  <a:ext cx="493200" cy="225720"/>
                  <a:chOff x="5361840" y="3906360"/>
                  <a:chExt cx="493200" cy="225720"/>
                </a:xfrm>
              </p:grpSpPr>
              <p:grpSp>
                <p:nvGrpSpPr>
                  <p:cNvPr id="97" name="Group 52"/>
                  <p:cNvGrpSpPr/>
                  <p:nvPr/>
                </p:nvGrpSpPr>
                <p:grpSpPr>
                  <a:xfrm>
                    <a:off x="5361840" y="3909600"/>
                    <a:ext cx="243360" cy="222480"/>
                    <a:chOff x="5361840" y="3909600"/>
                    <a:chExt cx="243360" cy="222480"/>
                  </a:xfrm>
                </p:grpSpPr>
                <p:sp>
                  <p:nvSpPr>
                    <p:cNvPr id="98" name="AutoShape 53"/>
                    <p:cNvSpPr/>
                    <p:nvPr/>
                  </p:nvSpPr>
                  <p:spPr>
                    <a:xfrm rot="5400000">
                      <a:off x="5346720" y="392472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9" name="Oval 54"/>
                    <p:cNvSpPr/>
                    <p:nvPr/>
                  </p:nvSpPr>
                  <p:spPr>
                    <a:xfrm>
                      <a:off x="5547960" y="399132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00" name="Group 55"/>
                  <p:cNvGrpSpPr/>
                  <p:nvPr/>
                </p:nvGrpSpPr>
                <p:grpSpPr>
                  <a:xfrm>
                    <a:off x="5611680" y="3906360"/>
                    <a:ext cx="243360" cy="222480"/>
                    <a:chOff x="5611680" y="3906360"/>
                    <a:chExt cx="243360" cy="222480"/>
                  </a:xfrm>
                </p:grpSpPr>
                <p:sp>
                  <p:nvSpPr>
                    <p:cNvPr id="101" name="AutoShape 56"/>
                    <p:cNvSpPr/>
                    <p:nvPr/>
                  </p:nvSpPr>
                  <p:spPr>
                    <a:xfrm rot="5400000">
                      <a:off x="5596560" y="392148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2" name="Oval 57"/>
                    <p:cNvSpPr/>
                    <p:nvPr/>
                  </p:nvSpPr>
                  <p:spPr>
                    <a:xfrm>
                      <a:off x="5797800" y="398808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03" name="Group 58"/>
                <p:cNvGrpSpPr/>
                <p:nvPr/>
              </p:nvGrpSpPr>
              <p:grpSpPr>
                <a:xfrm>
                  <a:off x="4349160" y="3411000"/>
                  <a:ext cx="493200" cy="225360"/>
                  <a:chOff x="4349160" y="3411000"/>
                  <a:chExt cx="493200" cy="225360"/>
                </a:xfrm>
              </p:grpSpPr>
              <p:grpSp>
                <p:nvGrpSpPr>
                  <p:cNvPr id="104" name="Group 59"/>
                  <p:cNvGrpSpPr/>
                  <p:nvPr/>
                </p:nvGrpSpPr>
                <p:grpSpPr>
                  <a:xfrm>
                    <a:off x="4599000" y="3413880"/>
                    <a:ext cx="243360" cy="222480"/>
                    <a:chOff x="4599000" y="3413880"/>
                    <a:chExt cx="243360" cy="222480"/>
                  </a:xfrm>
                </p:grpSpPr>
                <p:sp>
                  <p:nvSpPr>
                    <p:cNvPr id="105" name="AutoShape 60"/>
                    <p:cNvSpPr/>
                    <p:nvPr/>
                  </p:nvSpPr>
                  <p:spPr>
                    <a:xfrm flipH="1" rot="16200000">
                      <a:off x="4635000" y="342900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6" name="Oval 61"/>
                    <p:cNvSpPr/>
                    <p:nvPr/>
                  </p:nvSpPr>
                  <p:spPr>
                    <a:xfrm flipH="1">
                      <a:off x="4598640" y="349560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07" name="Group 62"/>
                  <p:cNvGrpSpPr/>
                  <p:nvPr/>
                </p:nvGrpSpPr>
                <p:grpSpPr>
                  <a:xfrm>
                    <a:off x="4349160" y="3411000"/>
                    <a:ext cx="243360" cy="222480"/>
                    <a:chOff x="4349160" y="3411000"/>
                    <a:chExt cx="243360" cy="222480"/>
                  </a:xfrm>
                </p:grpSpPr>
                <p:sp>
                  <p:nvSpPr>
                    <p:cNvPr id="108" name="AutoShape 63"/>
                    <p:cNvSpPr/>
                    <p:nvPr/>
                  </p:nvSpPr>
                  <p:spPr>
                    <a:xfrm flipH="1" rot="16200000">
                      <a:off x="4385160" y="342612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9" name="Oval 64"/>
                    <p:cNvSpPr/>
                    <p:nvPr/>
                  </p:nvSpPr>
                  <p:spPr>
                    <a:xfrm flipH="1">
                      <a:off x="4348800" y="349272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</p:grpSp>
        <p:sp>
          <p:nvSpPr>
            <p:cNvPr id="110" name="Text Box 65"/>
            <p:cNvSpPr/>
            <p:nvPr/>
          </p:nvSpPr>
          <p:spPr>
            <a:xfrm>
              <a:off x="6078960" y="2909880"/>
              <a:ext cx="435240" cy="232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CLK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 Box 66"/>
            <p:cNvSpPr/>
            <p:nvPr/>
          </p:nvSpPr>
          <p:spPr>
            <a:xfrm>
              <a:off x="6078960" y="3922560"/>
              <a:ext cx="435240" cy="232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CLK2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y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lock Selector, Transmission Gates, and Positive Edge Triggered Regis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oup 2"/>
          <p:cNvGrpSpPr/>
          <p:nvPr/>
        </p:nvGrpSpPr>
        <p:grpSpPr>
          <a:xfrm>
            <a:off x="2209680" y="2666880"/>
            <a:ext cx="4700880" cy="3124440"/>
            <a:chOff x="2209680" y="2666880"/>
            <a:chExt cx="4700880" cy="3124440"/>
          </a:xfrm>
        </p:grpSpPr>
        <p:grpSp>
          <p:nvGrpSpPr>
            <p:cNvPr id="115" name="Group 3"/>
            <p:cNvGrpSpPr/>
            <p:nvPr/>
          </p:nvGrpSpPr>
          <p:grpSpPr>
            <a:xfrm>
              <a:off x="2209680" y="2666880"/>
              <a:ext cx="4700880" cy="3124440"/>
              <a:chOff x="2209680" y="2666880"/>
              <a:chExt cx="4700880" cy="3124440"/>
            </a:xfrm>
          </p:grpSpPr>
          <p:grpSp>
            <p:nvGrpSpPr>
              <p:cNvPr id="116" name="Group 4"/>
              <p:cNvGrpSpPr/>
              <p:nvPr/>
            </p:nvGrpSpPr>
            <p:grpSpPr>
              <a:xfrm>
                <a:off x="2209680" y="2666880"/>
                <a:ext cx="4700880" cy="3124440"/>
                <a:chOff x="2209680" y="2666880"/>
                <a:chExt cx="4700880" cy="3124440"/>
              </a:xfrm>
            </p:grpSpPr>
            <p:sp>
              <p:nvSpPr>
                <p:cNvPr id="117" name="Rectangle 5"/>
                <p:cNvSpPr/>
                <p:nvPr/>
              </p:nvSpPr>
              <p:spPr>
                <a:xfrm>
                  <a:off x="2209680" y="2666880"/>
                  <a:ext cx="4700880" cy="312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18" name="Group 6"/>
                <p:cNvGrpSpPr/>
                <p:nvPr/>
              </p:nvGrpSpPr>
              <p:grpSpPr>
                <a:xfrm>
                  <a:off x="3497760" y="2803320"/>
                  <a:ext cx="2809800" cy="2778120"/>
                  <a:chOff x="3497760" y="2803320"/>
                  <a:chExt cx="2809800" cy="2778120"/>
                </a:xfrm>
              </p:grpSpPr>
              <p:grpSp>
                <p:nvGrpSpPr>
                  <p:cNvPr id="119" name="Group 7"/>
                  <p:cNvGrpSpPr/>
                  <p:nvPr/>
                </p:nvGrpSpPr>
                <p:grpSpPr>
                  <a:xfrm>
                    <a:off x="3497760" y="2803320"/>
                    <a:ext cx="2809800" cy="2778120"/>
                    <a:chOff x="3497760" y="2803320"/>
                    <a:chExt cx="2809800" cy="2778120"/>
                  </a:xfrm>
                </p:grpSpPr>
                <p:grpSp>
                  <p:nvGrpSpPr>
                    <p:cNvPr id="120" name="Group 8"/>
                    <p:cNvGrpSpPr/>
                    <p:nvPr/>
                  </p:nvGrpSpPr>
                  <p:grpSpPr>
                    <a:xfrm>
                      <a:off x="3497760" y="2803320"/>
                      <a:ext cx="2809800" cy="2778120"/>
                      <a:chOff x="3497760" y="2803320"/>
                      <a:chExt cx="2809800" cy="2778120"/>
                    </a:xfrm>
                  </p:grpSpPr>
                  <p:grpSp>
                    <p:nvGrpSpPr>
                      <p:cNvPr id="121" name="Group 9"/>
                      <p:cNvGrpSpPr/>
                      <p:nvPr/>
                    </p:nvGrpSpPr>
                    <p:grpSpPr>
                      <a:xfrm>
                        <a:off x="5028120" y="2924280"/>
                        <a:ext cx="1279440" cy="2657160"/>
                        <a:chOff x="5028120" y="2924280"/>
                        <a:chExt cx="1279440" cy="2657160"/>
                      </a:xfrm>
                    </p:grpSpPr>
                    <p:sp>
                      <p:nvSpPr>
                        <p:cNvPr id="122" name="Rectangle 10"/>
                        <p:cNvSpPr/>
                        <p:nvPr/>
                      </p:nvSpPr>
                      <p:spPr>
                        <a:xfrm>
                          <a:off x="5389200" y="292428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3" name="Rectangle 11"/>
                        <p:cNvSpPr/>
                        <p:nvPr/>
                      </p:nvSpPr>
                      <p:spPr>
                        <a:xfrm>
                          <a:off x="5725800" y="292428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4" name="Rectangle 12"/>
                        <p:cNvSpPr/>
                        <p:nvPr/>
                      </p:nvSpPr>
                      <p:spPr>
                        <a:xfrm>
                          <a:off x="6061680" y="292428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5" name="Rectangle 13"/>
                        <p:cNvSpPr/>
                        <p:nvPr/>
                      </p:nvSpPr>
                      <p:spPr>
                        <a:xfrm>
                          <a:off x="5051520" y="292428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6" name="Rectangle 14"/>
                        <p:cNvSpPr/>
                        <p:nvPr/>
                      </p:nvSpPr>
                      <p:spPr>
                        <a:xfrm>
                          <a:off x="5383440" y="32677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7" name="Rectangle 15"/>
                        <p:cNvSpPr/>
                        <p:nvPr/>
                      </p:nvSpPr>
                      <p:spPr>
                        <a:xfrm>
                          <a:off x="5720040" y="32677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8" name="Rectangle 16"/>
                        <p:cNvSpPr/>
                        <p:nvPr/>
                      </p:nvSpPr>
                      <p:spPr>
                        <a:xfrm>
                          <a:off x="6055920" y="32677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9" name="Rectangle 17"/>
                        <p:cNvSpPr/>
                        <p:nvPr/>
                      </p:nvSpPr>
                      <p:spPr>
                        <a:xfrm>
                          <a:off x="5045760" y="32677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0" name="Rectangle 18"/>
                        <p:cNvSpPr/>
                        <p:nvPr/>
                      </p:nvSpPr>
                      <p:spPr>
                        <a:xfrm>
                          <a:off x="5377320" y="36115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1" name="Rectangle 19"/>
                        <p:cNvSpPr/>
                        <p:nvPr/>
                      </p:nvSpPr>
                      <p:spPr>
                        <a:xfrm>
                          <a:off x="5714280" y="36115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2" name="Rectangle 20"/>
                        <p:cNvSpPr/>
                        <p:nvPr/>
                      </p:nvSpPr>
                      <p:spPr>
                        <a:xfrm>
                          <a:off x="6050160" y="36115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3" name="Rectangle 21"/>
                        <p:cNvSpPr/>
                        <p:nvPr/>
                      </p:nvSpPr>
                      <p:spPr>
                        <a:xfrm>
                          <a:off x="5039640" y="36115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4" name="Rectangle 22"/>
                        <p:cNvSpPr/>
                        <p:nvPr/>
                      </p:nvSpPr>
                      <p:spPr>
                        <a:xfrm>
                          <a:off x="5377320" y="395496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5" name="Rectangle 23"/>
                        <p:cNvSpPr/>
                        <p:nvPr/>
                      </p:nvSpPr>
                      <p:spPr>
                        <a:xfrm>
                          <a:off x="5714280" y="395496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6" name="Rectangle 24"/>
                        <p:cNvSpPr/>
                        <p:nvPr/>
                      </p:nvSpPr>
                      <p:spPr>
                        <a:xfrm>
                          <a:off x="6050160" y="395496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7" name="Rectangle 25"/>
                        <p:cNvSpPr/>
                        <p:nvPr/>
                      </p:nvSpPr>
                      <p:spPr>
                        <a:xfrm>
                          <a:off x="5039640" y="395496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8" name="Rectangle 26"/>
                        <p:cNvSpPr/>
                        <p:nvPr/>
                      </p:nvSpPr>
                      <p:spPr>
                        <a:xfrm>
                          <a:off x="5377320" y="42948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9" name="Rectangle 27"/>
                        <p:cNvSpPr/>
                        <p:nvPr/>
                      </p:nvSpPr>
                      <p:spPr>
                        <a:xfrm>
                          <a:off x="5714280" y="42948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0" name="Rectangle 28"/>
                        <p:cNvSpPr/>
                        <p:nvPr/>
                      </p:nvSpPr>
                      <p:spPr>
                        <a:xfrm>
                          <a:off x="6050160" y="42948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1" name="Rectangle 29"/>
                        <p:cNvSpPr/>
                        <p:nvPr/>
                      </p:nvSpPr>
                      <p:spPr>
                        <a:xfrm>
                          <a:off x="5039640" y="42948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2" name="Rectangle 30"/>
                        <p:cNvSpPr/>
                        <p:nvPr/>
                      </p:nvSpPr>
                      <p:spPr>
                        <a:xfrm>
                          <a:off x="5371560" y="46386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3" name="Rectangle 31"/>
                        <p:cNvSpPr/>
                        <p:nvPr/>
                      </p:nvSpPr>
                      <p:spPr>
                        <a:xfrm>
                          <a:off x="5708520" y="46386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4" name="Rectangle 32"/>
                        <p:cNvSpPr/>
                        <p:nvPr/>
                      </p:nvSpPr>
                      <p:spPr>
                        <a:xfrm>
                          <a:off x="6044400" y="46386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5" name="Rectangle 33"/>
                        <p:cNvSpPr/>
                        <p:nvPr/>
                      </p:nvSpPr>
                      <p:spPr>
                        <a:xfrm>
                          <a:off x="5033880" y="46386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6" name="Rectangle 34"/>
                        <p:cNvSpPr/>
                        <p:nvPr/>
                      </p:nvSpPr>
                      <p:spPr>
                        <a:xfrm>
                          <a:off x="5365800" y="49820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7" name="Rectangle 35"/>
                        <p:cNvSpPr/>
                        <p:nvPr/>
                      </p:nvSpPr>
                      <p:spPr>
                        <a:xfrm>
                          <a:off x="5702760" y="49820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8" name="Rectangle 36"/>
                        <p:cNvSpPr/>
                        <p:nvPr/>
                      </p:nvSpPr>
                      <p:spPr>
                        <a:xfrm>
                          <a:off x="6038640" y="49820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9" name="Rectangle 37"/>
                        <p:cNvSpPr/>
                        <p:nvPr/>
                      </p:nvSpPr>
                      <p:spPr>
                        <a:xfrm>
                          <a:off x="5028120" y="49820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0" name="Rectangle 38"/>
                        <p:cNvSpPr/>
                        <p:nvPr/>
                      </p:nvSpPr>
                      <p:spPr>
                        <a:xfrm>
                          <a:off x="5365800" y="53258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1" name="Rectangle 39"/>
                        <p:cNvSpPr/>
                        <p:nvPr/>
                      </p:nvSpPr>
                      <p:spPr>
                        <a:xfrm>
                          <a:off x="5702760" y="53258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2" name="Rectangle 40"/>
                        <p:cNvSpPr/>
                        <p:nvPr/>
                      </p:nvSpPr>
                      <p:spPr>
                        <a:xfrm>
                          <a:off x="6038640" y="53258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3" name="Rectangle 41"/>
                        <p:cNvSpPr/>
                        <p:nvPr/>
                      </p:nvSpPr>
                      <p:spPr>
                        <a:xfrm>
                          <a:off x="5028120" y="53258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154" name="Line 42"/>
                      <p:cNvSpPr/>
                      <p:nvPr/>
                    </p:nvSpPr>
                    <p:spPr>
                      <a:xfrm flipH="1" flipV="1">
                        <a:off x="3497760" y="4123800"/>
                        <a:ext cx="251640" cy="1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55" name="Group 43"/>
                      <p:cNvGrpSpPr/>
                      <p:nvPr/>
                    </p:nvGrpSpPr>
                    <p:grpSpPr>
                      <a:xfrm>
                        <a:off x="4153680" y="2880360"/>
                        <a:ext cx="1902240" cy="2579040"/>
                        <a:chOff x="4153680" y="2880360"/>
                        <a:chExt cx="1902240" cy="2579040"/>
                      </a:xfrm>
                    </p:grpSpPr>
                    <p:grpSp>
                      <p:nvGrpSpPr>
                        <p:cNvPr id="156" name="Group 44"/>
                        <p:cNvGrpSpPr/>
                        <p:nvPr/>
                      </p:nvGrpSpPr>
                      <p:grpSpPr>
                        <a:xfrm>
                          <a:off x="4179960" y="2880360"/>
                          <a:ext cx="1875960" cy="174240"/>
                          <a:chOff x="4179960" y="2880360"/>
                          <a:chExt cx="1875960" cy="174240"/>
                        </a:xfrm>
                      </p:grpSpPr>
                      <p:sp>
                        <p:nvSpPr>
                          <p:cNvPr id="157" name="Line 45"/>
                          <p:cNvSpPr/>
                          <p:nvPr/>
                        </p:nvSpPr>
                        <p:spPr>
                          <a:xfrm flipV="1">
                            <a:off x="4179960" y="288072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158" name="Group 46"/>
                          <p:cNvGrpSpPr/>
                          <p:nvPr/>
                        </p:nvGrpSpPr>
                        <p:grpSpPr>
                          <a:xfrm>
                            <a:off x="6017760" y="2881080"/>
                            <a:ext cx="38160" cy="171720"/>
                            <a:chOff x="6017760" y="2881080"/>
                            <a:chExt cx="38160" cy="171720"/>
                          </a:xfrm>
                        </p:grpSpPr>
                        <p:cxnSp>
                          <p:nvCxnSpPr>
                            <p:cNvPr id="159" name="AutoShape 47"/>
                            <p:cNvCxnSpPr/>
                            <p:nvPr/>
                          </p:nvCxnSpPr>
                          <p:spPr>
                            <a:xfrm>
                              <a:off x="6017760" y="28810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60" name="AutoShape 48"/>
                            <p:cNvCxnSpPr/>
                            <p:nvPr/>
                          </p:nvCxnSpPr>
                          <p:spPr>
                            <a:xfrm>
                              <a:off x="6017760" y="305172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61" name="Group 49"/>
                          <p:cNvGrpSpPr/>
                          <p:nvPr/>
                        </p:nvGrpSpPr>
                        <p:grpSpPr>
                          <a:xfrm>
                            <a:off x="5681880" y="2881080"/>
                            <a:ext cx="38160" cy="171720"/>
                            <a:chOff x="5681880" y="2881080"/>
                            <a:chExt cx="38160" cy="171720"/>
                          </a:xfrm>
                        </p:grpSpPr>
                        <p:cxnSp>
                          <p:nvCxnSpPr>
                            <p:cNvPr id="162" name="AutoShape 50"/>
                            <p:cNvCxnSpPr/>
                            <p:nvPr/>
                          </p:nvCxnSpPr>
                          <p:spPr>
                            <a:xfrm>
                              <a:off x="5681880" y="28810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63" name="AutoShape 51"/>
                            <p:cNvCxnSpPr/>
                            <p:nvPr/>
                          </p:nvCxnSpPr>
                          <p:spPr>
                            <a:xfrm>
                              <a:off x="5681880" y="30513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64" name="Group 52"/>
                          <p:cNvGrpSpPr/>
                          <p:nvPr/>
                        </p:nvGrpSpPr>
                        <p:grpSpPr>
                          <a:xfrm>
                            <a:off x="5342040" y="2880360"/>
                            <a:ext cx="38160" cy="171720"/>
                            <a:chOff x="5342040" y="2880360"/>
                            <a:chExt cx="38160" cy="171720"/>
                          </a:xfrm>
                        </p:grpSpPr>
                        <p:cxnSp>
                          <p:nvCxnSpPr>
                            <p:cNvPr id="165" name="AutoShape 53"/>
                            <p:cNvCxnSpPr/>
                            <p:nvPr/>
                          </p:nvCxnSpPr>
                          <p:spPr>
                            <a:xfrm>
                              <a:off x="5342040" y="28803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66" name="AutoShape 54"/>
                            <p:cNvCxnSpPr/>
                            <p:nvPr/>
                          </p:nvCxnSpPr>
                          <p:spPr>
                            <a:xfrm>
                              <a:off x="5342040" y="30506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67" name="Group 55"/>
                          <p:cNvGrpSpPr/>
                          <p:nvPr/>
                        </p:nvGrpSpPr>
                        <p:grpSpPr>
                          <a:xfrm>
                            <a:off x="5007240" y="2882880"/>
                            <a:ext cx="38160" cy="171720"/>
                            <a:chOff x="5007240" y="2882880"/>
                            <a:chExt cx="38160" cy="171720"/>
                          </a:xfrm>
                        </p:grpSpPr>
                        <p:cxnSp>
                          <p:nvCxnSpPr>
                            <p:cNvPr id="168" name="AutoShape 56"/>
                            <p:cNvCxnSpPr/>
                            <p:nvPr/>
                          </p:nvCxnSpPr>
                          <p:spPr>
                            <a:xfrm>
                              <a:off x="5007240" y="28828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69" name="AutoShape 57"/>
                            <p:cNvCxnSpPr/>
                            <p:nvPr/>
                          </p:nvCxnSpPr>
                          <p:spPr>
                            <a:xfrm>
                              <a:off x="5007240" y="30531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170" name="Group 58"/>
                        <p:cNvGrpSpPr/>
                        <p:nvPr/>
                      </p:nvGrpSpPr>
                      <p:grpSpPr>
                        <a:xfrm>
                          <a:off x="4173840" y="3221640"/>
                          <a:ext cx="1875960" cy="174240"/>
                          <a:chOff x="4173840" y="3221640"/>
                          <a:chExt cx="1875960" cy="174240"/>
                        </a:xfrm>
                      </p:grpSpPr>
                      <p:sp>
                        <p:nvSpPr>
                          <p:cNvPr id="171" name="Line 59"/>
                          <p:cNvSpPr/>
                          <p:nvPr/>
                        </p:nvSpPr>
                        <p:spPr>
                          <a:xfrm flipV="1">
                            <a:off x="4173840" y="322200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172" name="Group 60"/>
                          <p:cNvGrpSpPr/>
                          <p:nvPr/>
                        </p:nvGrpSpPr>
                        <p:grpSpPr>
                          <a:xfrm>
                            <a:off x="6011640" y="3222360"/>
                            <a:ext cx="38160" cy="171720"/>
                            <a:chOff x="6011640" y="3222360"/>
                            <a:chExt cx="38160" cy="171720"/>
                          </a:xfrm>
                        </p:grpSpPr>
                        <p:cxnSp>
                          <p:nvCxnSpPr>
                            <p:cNvPr id="173" name="AutoShape 61"/>
                            <p:cNvCxnSpPr/>
                            <p:nvPr/>
                          </p:nvCxnSpPr>
                          <p:spPr>
                            <a:xfrm>
                              <a:off x="6011640" y="32223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74" name="AutoShape 62"/>
                            <p:cNvCxnSpPr/>
                            <p:nvPr/>
                          </p:nvCxnSpPr>
                          <p:spPr>
                            <a:xfrm>
                              <a:off x="6011640" y="339300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75" name="Group 63"/>
                          <p:cNvGrpSpPr/>
                          <p:nvPr/>
                        </p:nvGrpSpPr>
                        <p:grpSpPr>
                          <a:xfrm>
                            <a:off x="5675760" y="3222360"/>
                            <a:ext cx="38160" cy="171720"/>
                            <a:chOff x="5675760" y="3222360"/>
                            <a:chExt cx="38160" cy="171720"/>
                          </a:xfrm>
                        </p:grpSpPr>
                        <p:cxnSp>
                          <p:nvCxnSpPr>
                            <p:cNvPr id="176" name="AutoShape 64"/>
                            <p:cNvCxnSpPr/>
                            <p:nvPr/>
                          </p:nvCxnSpPr>
                          <p:spPr>
                            <a:xfrm>
                              <a:off x="5675760" y="32223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77" name="AutoShape 65"/>
                            <p:cNvCxnSpPr/>
                            <p:nvPr/>
                          </p:nvCxnSpPr>
                          <p:spPr>
                            <a:xfrm>
                              <a:off x="5675760" y="33926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78" name="Group 66"/>
                          <p:cNvGrpSpPr/>
                          <p:nvPr/>
                        </p:nvGrpSpPr>
                        <p:grpSpPr>
                          <a:xfrm>
                            <a:off x="5335920" y="3221640"/>
                            <a:ext cx="38160" cy="171720"/>
                            <a:chOff x="5335920" y="3221640"/>
                            <a:chExt cx="38160" cy="171720"/>
                          </a:xfrm>
                        </p:grpSpPr>
                        <p:cxnSp>
                          <p:nvCxnSpPr>
                            <p:cNvPr id="179" name="AutoShape 67"/>
                            <p:cNvCxnSpPr/>
                            <p:nvPr/>
                          </p:nvCxnSpPr>
                          <p:spPr>
                            <a:xfrm>
                              <a:off x="5335920" y="322164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80" name="AutoShape 68"/>
                            <p:cNvCxnSpPr/>
                            <p:nvPr/>
                          </p:nvCxnSpPr>
                          <p:spPr>
                            <a:xfrm>
                              <a:off x="5335920" y="339192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81" name="Group 69"/>
                          <p:cNvGrpSpPr/>
                          <p:nvPr/>
                        </p:nvGrpSpPr>
                        <p:grpSpPr>
                          <a:xfrm>
                            <a:off x="5001120" y="3224160"/>
                            <a:ext cx="38160" cy="171720"/>
                            <a:chOff x="5001120" y="3224160"/>
                            <a:chExt cx="38160" cy="171720"/>
                          </a:xfrm>
                        </p:grpSpPr>
                        <p:cxnSp>
                          <p:nvCxnSpPr>
                            <p:cNvPr id="182" name="AutoShape 70"/>
                            <p:cNvCxnSpPr/>
                            <p:nvPr/>
                          </p:nvCxnSpPr>
                          <p:spPr>
                            <a:xfrm>
                              <a:off x="5001120" y="32241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83" name="AutoShape 71"/>
                            <p:cNvCxnSpPr/>
                            <p:nvPr/>
                          </p:nvCxnSpPr>
                          <p:spPr>
                            <a:xfrm>
                              <a:off x="5001120" y="33944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184" name="Group 72"/>
                        <p:cNvGrpSpPr/>
                        <p:nvPr/>
                      </p:nvGrpSpPr>
                      <p:grpSpPr>
                        <a:xfrm>
                          <a:off x="4173840" y="3567240"/>
                          <a:ext cx="1875960" cy="174240"/>
                          <a:chOff x="4173840" y="3567240"/>
                          <a:chExt cx="1875960" cy="174240"/>
                        </a:xfrm>
                      </p:grpSpPr>
                      <p:sp>
                        <p:nvSpPr>
                          <p:cNvPr id="185" name="Line 73"/>
                          <p:cNvSpPr/>
                          <p:nvPr/>
                        </p:nvSpPr>
                        <p:spPr>
                          <a:xfrm flipV="1">
                            <a:off x="4173840" y="356760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186" name="Group 74"/>
                          <p:cNvGrpSpPr/>
                          <p:nvPr/>
                        </p:nvGrpSpPr>
                        <p:grpSpPr>
                          <a:xfrm>
                            <a:off x="6011640" y="3567960"/>
                            <a:ext cx="38160" cy="171720"/>
                            <a:chOff x="6011640" y="3567960"/>
                            <a:chExt cx="38160" cy="171720"/>
                          </a:xfrm>
                        </p:grpSpPr>
                        <p:cxnSp>
                          <p:nvCxnSpPr>
                            <p:cNvPr id="187" name="AutoShape 75"/>
                            <p:cNvCxnSpPr/>
                            <p:nvPr/>
                          </p:nvCxnSpPr>
                          <p:spPr>
                            <a:xfrm>
                              <a:off x="6011640" y="35679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88" name="AutoShape 76"/>
                            <p:cNvCxnSpPr/>
                            <p:nvPr/>
                          </p:nvCxnSpPr>
                          <p:spPr>
                            <a:xfrm>
                              <a:off x="6011640" y="373860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89" name="Group 77"/>
                          <p:cNvGrpSpPr/>
                          <p:nvPr/>
                        </p:nvGrpSpPr>
                        <p:grpSpPr>
                          <a:xfrm>
                            <a:off x="5675760" y="3567960"/>
                            <a:ext cx="38160" cy="171720"/>
                            <a:chOff x="5675760" y="3567960"/>
                            <a:chExt cx="38160" cy="171720"/>
                          </a:xfrm>
                        </p:grpSpPr>
                        <p:cxnSp>
                          <p:nvCxnSpPr>
                            <p:cNvPr id="190" name="AutoShape 78"/>
                            <p:cNvCxnSpPr/>
                            <p:nvPr/>
                          </p:nvCxnSpPr>
                          <p:spPr>
                            <a:xfrm>
                              <a:off x="5675760" y="35679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91" name="AutoShape 79"/>
                            <p:cNvCxnSpPr/>
                            <p:nvPr/>
                          </p:nvCxnSpPr>
                          <p:spPr>
                            <a:xfrm>
                              <a:off x="5675760" y="37382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92" name="Group 80"/>
                          <p:cNvGrpSpPr/>
                          <p:nvPr/>
                        </p:nvGrpSpPr>
                        <p:grpSpPr>
                          <a:xfrm>
                            <a:off x="5335920" y="3567240"/>
                            <a:ext cx="38160" cy="171720"/>
                            <a:chOff x="5335920" y="3567240"/>
                            <a:chExt cx="38160" cy="171720"/>
                          </a:xfrm>
                        </p:grpSpPr>
                        <p:cxnSp>
                          <p:nvCxnSpPr>
                            <p:cNvPr id="193" name="AutoShape 81"/>
                            <p:cNvCxnSpPr/>
                            <p:nvPr/>
                          </p:nvCxnSpPr>
                          <p:spPr>
                            <a:xfrm>
                              <a:off x="5335920" y="356724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94" name="AutoShape 82"/>
                            <p:cNvCxnSpPr/>
                            <p:nvPr/>
                          </p:nvCxnSpPr>
                          <p:spPr>
                            <a:xfrm>
                              <a:off x="5335920" y="373752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95" name="Group 83"/>
                          <p:cNvGrpSpPr/>
                          <p:nvPr/>
                        </p:nvGrpSpPr>
                        <p:grpSpPr>
                          <a:xfrm>
                            <a:off x="5001120" y="3569760"/>
                            <a:ext cx="38160" cy="171720"/>
                            <a:chOff x="5001120" y="3569760"/>
                            <a:chExt cx="38160" cy="171720"/>
                          </a:xfrm>
                        </p:grpSpPr>
                        <p:cxnSp>
                          <p:nvCxnSpPr>
                            <p:cNvPr id="196" name="AutoShape 84"/>
                            <p:cNvCxnSpPr/>
                            <p:nvPr/>
                          </p:nvCxnSpPr>
                          <p:spPr>
                            <a:xfrm>
                              <a:off x="5001120" y="35697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97" name="AutoShape 85"/>
                            <p:cNvCxnSpPr/>
                            <p:nvPr/>
                          </p:nvCxnSpPr>
                          <p:spPr>
                            <a:xfrm>
                              <a:off x="5001120" y="37400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198" name="Group 86"/>
                        <p:cNvGrpSpPr/>
                        <p:nvPr/>
                      </p:nvGrpSpPr>
                      <p:grpSpPr>
                        <a:xfrm>
                          <a:off x="4173840" y="3914640"/>
                          <a:ext cx="1875960" cy="174240"/>
                          <a:chOff x="4173840" y="3914640"/>
                          <a:chExt cx="1875960" cy="174240"/>
                        </a:xfrm>
                      </p:grpSpPr>
                      <p:sp>
                        <p:nvSpPr>
                          <p:cNvPr id="199" name="Line 87"/>
                          <p:cNvSpPr/>
                          <p:nvPr/>
                        </p:nvSpPr>
                        <p:spPr>
                          <a:xfrm flipV="1">
                            <a:off x="4173840" y="391500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200" name="Group 88"/>
                          <p:cNvGrpSpPr/>
                          <p:nvPr/>
                        </p:nvGrpSpPr>
                        <p:grpSpPr>
                          <a:xfrm>
                            <a:off x="6011640" y="3915360"/>
                            <a:ext cx="38160" cy="171720"/>
                            <a:chOff x="6011640" y="3915360"/>
                            <a:chExt cx="38160" cy="171720"/>
                          </a:xfrm>
                        </p:grpSpPr>
                        <p:cxnSp>
                          <p:nvCxnSpPr>
                            <p:cNvPr id="201" name="AutoShape 89"/>
                            <p:cNvCxnSpPr/>
                            <p:nvPr/>
                          </p:nvCxnSpPr>
                          <p:spPr>
                            <a:xfrm>
                              <a:off x="6011640" y="39153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02" name="AutoShape 90"/>
                            <p:cNvCxnSpPr/>
                            <p:nvPr/>
                          </p:nvCxnSpPr>
                          <p:spPr>
                            <a:xfrm>
                              <a:off x="6011640" y="408600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03" name="Group 91"/>
                          <p:cNvGrpSpPr/>
                          <p:nvPr/>
                        </p:nvGrpSpPr>
                        <p:grpSpPr>
                          <a:xfrm>
                            <a:off x="5675760" y="3915360"/>
                            <a:ext cx="38160" cy="171720"/>
                            <a:chOff x="5675760" y="3915360"/>
                            <a:chExt cx="38160" cy="171720"/>
                          </a:xfrm>
                        </p:grpSpPr>
                        <p:cxnSp>
                          <p:nvCxnSpPr>
                            <p:cNvPr id="204" name="AutoShape 92"/>
                            <p:cNvCxnSpPr/>
                            <p:nvPr/>
                          </p:nvCxnSpPr>
                          <p:spPr>
                            <a:xfrm>
                              <a:off x="5675760" y="39153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05" name="AutoShape 93"/>
                            <p:cNvCxnSpPr/>
                            <p:nvPr/>
                          </p:nvCxnSpPr>
                          <p:spPr>
                            <a:xfrm>
                              <a:off x="5675760" y="40856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06" name="Group 94"/>
                          <p:cNvGrpSpPr/>
                          <p:nvPr/>
                        </p:nvGrpSpPr>
                        <p:grpSpPr>
                          <a:xfrm>
                            <a:off x="5335920" y="3914640"/>
                            <a:ext cx="38160" cy="171720"/>
                            <a:chOff x="5335920" y="3914640"/>
                            <a:chExt cx="38160" cy="171720"/>
                          </a:xfrm>
                        </p:grpSpPr>
                        <p:cxnSp>
                          <p:nvCxnSpPr>
                            <p:cNvPr id="207" name="AutoShape 95"/>
                            <p:cNvCxnSpPr/>
                            <p:nvPr/>
                          </p:nvCxnSpPr>
                          <p:spPr>
                            <a:xfrm>
                              <a:off x="5335920" y="391464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08" name="AutoShape 96"/>
                            <p:cNvCxnSpPr/>
                            <p:nvPr/>
                          </p:nvCxnSpPr>
                          <p:spPr>
                            <a:xfrm>
                              <a:off x="5335920" y="408492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09" name="Group 97"/>
                          <p:cNvGrpSpPr/>
                          <p:nvPr/>
                        </p:nvGrpSpPr>
                        <p:grpSpPr>
                          <a:xfrm>
                            <a:off x="5001120" y="3917160"/>
                            <a:ext cx="38160" cy="171720"/>
                            <a:chOff x="5001120" y="3917160"/>
                            <a:chExt cx="38160" cy="171720"/>
                          </a:xfrm>
                        </p:grpSpPr>
                        <p:cxnSp>
                          <p:nvCxnSpPr>
                            <p:cNvPr id="210" name="AutoShape 98"/>
                            <p:cNvCxnSpPr/>
                            <p:nvPr/>
                          </p:nvCxnSpPr>
                          <p:spPr>
                            <a:xfrm>
                              <a:off x="5001120" y="39171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11" name="AutoShape 99"/>
                            <p:cNvCxnSpPr/>
                            <p:nvPr/>
                          </p:nvCxnSpPr>
                          <p:spPr>
                            <a:xfrm>
                              <a:off x="5001120" y="40874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212" name="Group 100"/>
                        <p:cNvGrpSpPr/>
                        <p:nvPr/>
                      </p:nvGrpSpPr>
                      <p:grpSpPr>
                        <a:xfrm>
                          <a:off x="4173840" y="4242960"/>
                          <a:ext cx="1875960" cy="174240"/>
                          <a:chOff x="4173840" y="4242960"/>
                          <a:chExt cx="1875960" cy="174240"/>
                        </a:xfrm>
                      </p:grpSpPr>
                      <p:sp>
                        <p:nvSpPr>
                          <p:cNvPr id="213" name="Line 101"/>
                          <p:cNvSpPr/>
                          <p:nvPr/>
                        </p:nvSpPr>
                        <p:spPr>
                          <a:xfrm flipV="1">
                            <a:off x="4173840" y="424332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214" name="Group 102"/>
                          <p:cNvGrpSpPr/>
                          <p:nvPr/>
                        </p:nvGrpSpPr>
                        <p:grpSpPr>
                          <a:xfrm>
                            <a:off x="6011640" y="4243680"/>
                            <a:ext cx="38160" cy="171720"/>
                            <a:chOff x="6011640" y="4243680"/>
                            <a:chExt cx="38160" cy="171720"/>
                          </a:xfrm>
                        </p:grpSpPr>
                        <p:cxnSp>
                          <p:nvCxnSpPr>
                            <p:cNvPr id="215" name="AutoShape 103"/>
                            <p:cNvCxnSpPr/>
                            <p:nvPr/>
                          </p:nvCxnSpPr>
                          <p:spPr>
                            <a:xfrm>
                              <a:off x="6011640" y="42436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16" name="AutoShape 104"/>
                            <p:cNvCxnSpPr/>
                            <p:nvPr/>
                          </p:nvCxnSpPr>
                          <p:spPr>
                            <a:xfrm>
                              <a:off x="6011640" y="441432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17" name="Group 105"/>
                          <p:cNvGrpSpPr/>
                          <p:nvPr/>
                        </p:nvGrpSpPr>
                        <p:grpSpPr>
                          <a:xfrm>
                            <a:off x="5675760" y="4243680"/>
                            <a:ext cx="38160" cy="171720"/>
                            <a:chOff x="5675760" y="4243680"/>
                            <a:chExt cx="38160" cy="171720"/>
                          </a:xfrm>
                        </p:grpSpPr>
                        <p:cxnSp>
                          <p:nvCxnSpPr>
                            <p:cNvPr id="218" name="AutoShape 106"/>
                            <p:cNvCxnSpPr/>
                            <p:nvPr/>
                          </p:nvCxnSpPr>
                          <p:spPr>
                            <a:xfrm>
                              <a:off x="5675760" y="42436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19" name="AutoShape 107"/>
                            <p:cNvCxnSpPr/>
                            <p:nvPr/>
                          </p:nvCxnSpPr>
                          <p:spPr>
                            <a:xfrm>
                              <a:off x="5675760" y="44139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20" name="Group 108"/>
                          <p:cNvGrpSpPr/>
                          <p:nvPr/>
                        </p:nvGrpSpPr>
                        <p:grpSpPr>
                          <a:xfrm>
                            <a:off x="5335920" y="4242960"/>
                            <a:ext cx="38160" cy="171720"/>
                            <a:chOff x="5335920" y="4242960"/>
                            <a:chExt cx="38160" cy="171720"/>
                          </a:xfrm>
                        </p:grpSpPr>
                        <p:cxnSp>
                          <p:nvCxnSpPr>
                            <p:cNvPr id="221" name="AutoShape 109"/>
                            <p:cNvCxnSpPr/>
                            <p:nvPr/>
                          </p:nvCxnSpPr>
                          <p:spPr>
                            <a:xfrm>
                              <a:off x="5335920" y="42429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22" name="AutoShape 110"/>
                            <p:cNvCxnSpPr/>
                            <p:nvPr/>
                          </p:nvCxnSpPr>
                          <p:spPr>
                            <a:xfrm>
                              <a:off x="5335920" y="44132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23" name="Group 111"/>
                          <p:cNvGrpSpPr/>
                          <p:nvPr/>
                        </p:nvGrpSpPr>
                        <p:grpSpPr>
                          <a:xfrm>
                            <a:off x="5001120" y="4245480"/>
                            <a:ext cx="38160" cy="171720"/>
                            <a:chOff x="5001120" y="4245480"/>
                            <a:chExt cx="38160" cy="171720"/>
                          </a:xfrm>
                        </p:grpSpPr>
                        <p:cxnSp>
                          <p:nvCxnSpPr>
                            <p:cNvPr id="224" name="AutoShape 112"/>
                            <p:cNvCxnSpPr/>
                            <p:nvPr/>
                          </p:nvCxnSpPr>
                          <p:spPr>
                            <a:xfrm>
                              <a:off x="5001120" y="42454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25" name="AutoShape 113"/>
                            <p:cNvCxnSpPr/>
                            <p:nvPr/>
                          </p:nvCxnSpPr>
                          <p:spPr>
                            <a:xfrm>
                              <a:off x="5001120" y="44157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226" name="Group 114"/>
                        <p:cNvGrpSpPr/>
                        <p:nvPr/>
                      </p:nvGrpSpPr>
                      <p:grpSpPr>
                        <a:xfrm>
                          <a:off x="4168080" y="4591080"/>
                          <a:ext cx="1875960" cy="174240"/>
                          <a:chOff x="4168080" y="4591080"/>
                          <a:chExt cx="1875960" cy="174240"/>
                        </a:xfrm>
                      </p:grpSpPr>
                      <p:sp>
                        <p:nvSpPr>
                          <p:cNvPr id="227" name="Line 115"/>
                          <p:cNvSpPr/>
                          <p:nvPr/>
                        </p:nvSpPr>
                        <p:spPr>
                          <a:xfrm flipV="1">
                            <a:off x="4168080" y="459144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228" name="Group 116"/>
                          <p:cNvGrpSpPr/>
                          <p:nvPr/>
                        </p:nvGrpSpPr>
                        <p:grpSpPr>
                          <a:xfrm>
                            <a:off x="6005880" y="4591800"/>
                            <a:ext cx="38160" cy="171720"/>
                            <a:chOff x="6005880" y="4591800"/>
                            <a:chExt cx="38160" cy="171720"/>
                          </a:xfrm>
                        </p:grpSpPr>
                        <p:cxnSp>
                          <p:nvCxnSpPr>
                            <p:cNvPr id="229" name="AutoShape 117"/>
                            <p:cNvCxnSpPr/>
                            <p:nvPr/>
                          </p:nvCxnSpPr>
                          <p:spPr>
                            <a:xfrm>
                              <a:off x="6005880" y="459180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30" name="AutoShape 118"/>
                            <p:cNvCxnSpPr/>
                            <p:nvPr/>
                          </p:nvCxnSpPr>
                          <p:spPr>
                            <a:xfrm>
                              <a:off x="6005880" y="476244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31" name="Group 119"/>
                          <p:cNvGrpSpPr/>
                          <p:nvPr/>
                        </p:nvGrpSpPr>
                        <p:grpSpPr>
                          <a:xfrm>
                            <a:off x="5670000" y="4591800"/>
                            <a:ext cx="38160" cy="171720"/>
                            <a:chOff x="5670000" y="4591800"/>
                            <a:chExt cx="38160" cy="171720"/>
                          </a:xfrm>
                        </p:grpSpPr>
                        <p:cxnSp>
                          <p:nvCxnSpPr>
                            <p:cNvPr id="232" name="AutoShape 120"/>
                            <p:cNvCxnSpPr/>
                            <p:nvPr/>
                          </p:nvCxnSpPr>
                          <p:spPr>
                            <a:xfrm>
                              <a:off x="5670000" y="459180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33" name="AutoShape 121"/>
                            <p:cNvCxnSpPr/>
                            <p:nvPr/>
                          </p:nvCxnSpPr>
                          <p:spPr>
                            <a:xfrm>
                              <a:off x="5670000" y="476208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34" name="Group 122"/>
                          <p:cNvGrpSpPr/>
                          <p:nvPr/>
                        </p:nvGrpSpPr>
                        <p:grpSpPr>
                          <a:xfrm>
                            <a:off x="5330160" y="4591080"/>
                            <a:ext cx="38160" cy="171720"/>
                            <a:chOff x="5330160" y="4591080"/>
                            <a:chExt cx="38160" cy="171720"/>
                          </a:xfrm>
                        </p:grpSpPr>
                        <p:cxnSp>
                          <p:nvCxnSpPr>
                            <p:cNvPr id="235" name="AutoShape 123"/>
                            <p:cNvCxnSpPr/>
                            <p:nvPr/>
                          </p:nvCxnSpPr>
                          <p:spPr>
                            <a:xfrm>
                              <a:off x="5330160" y="45910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36" name="AutoShape 124"/>
                            <p:cNvCxnSpPr/>
                            <p:nvPr/>
                          </p:nvCxnSpPr>
                          <p:spPr>
                            <a:xfrm>
                              <a:off x="5330160" y="47613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37" name="Group 125"/>
                          <p:cNvGrpSpPr/>
                          <p:nvPr/>
                        </p:nvGrpSpPr>
                        <p:grpSpPr>
                          <a:xfrm>
                            <a:off x="4995360" y="4593600"/>
                            <a:ext cx="38160" cy="171720"/>
                            <a:chOff x="4995360" y="4593600"/>
                            <a:chExt cx="38160" cy="171720"/>
                          </a:xfrm>
                        </p:grpSpPr>
                        <p:cxnSp>
                          <p:nvCxnSpPr>
                            <p:cNvPr id="238" name="AutoShape 126"/>
                            <p:cNvCxnSpPr/>
                            <p:nvPr/>
                          </p:nvCxnSpPr>
                          <p:spPr>
                            <a:xfrm>
                              <a:off x="4995360" y="459360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39" name="AutoShape 127"/>
                            <p:cNvCxnSpPr/>
                            <p:nvPr/>
                          </p:nvCxnSpPr>
                          <p:spPr>
                            <a:xfrm>
                              <a:off x="4995360" y="476388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240" name="Group 128"/>
                        <p:cNvGrpSpPr/>
                        <p:nvPr/>
                      </p:nvGrpSpPr>
                      <p:grpSpPr>
                        <a:xfrm>
                          <a:off x="4159080" y="4935960"/>
                          <a:ext cx="1875960" cy="174240"/>
                          <a:chOff x="4159080" y="4935960"/>
                          <a:chExt cx="1875960" cy="174240"/>
                        </a:xfrm>
                      </p:grpSpPr>
                      <p:sp>
                        <p:nvSpPr>
                          <p:cNvPr id="241" name="Line 129"/>
                          <p:cNvSpPr/>
                          <p:nvPr/>
                        </p:nvSpPr>
                        <p:spPr>
                          <a:xfrm flipV="1">
                            <a:off x="4159080" y="493632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242" name="Group 130"/>
                          <p:cNvGrpSpPr/>
                          <p:nvPr/>
                        </p:nvGrpSpPr>
                        <p:grpSpPr>
                          <a:xfrm>
                            <a:off x="5996880" y="4936680"/>
                            <a:ext cx="38160" cy="171720"/>
                            <a:chOff x="5996880" y="4936680"/>
                            <a:chExt cx="38160" cy="171720"/>
                          </a:xfrm>
                        </p:grpSpPr>
                        <p:cxnSp>
                          <p:nvCxnSpPr>
                            <p:cNvPr id="243" name="AutoShape 131"/>
                            <p:cNvCxnSpPr/>
                            <p:nvPr/>
                          </p:nvCxnSpPr>
                          <p:spPr>
                            <a:xfrm>
                              <a:off x="5996880" y="49366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44" name="AutoShape 132"/>
                            <p:cNvCxnSpPr/>
                            <p:nvPr/>
                          </p:nvCxnSpPr>
                          <p:spPr>
                            <a:xfrm>
                              <a:off x="5996880" y="510732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45" name="Group 133"/>
                          <p:cNvGrpSpPr/>
                          <p:nvPr/>
                        </p:nvGrpSpPr>
                        <p:grpSpPr>
                          <a:xfrm>
                            <a:off x="5661000" y="4936680"/>
                            <a:ext cx="38160" cy="171720"/>
                            <a:chOff x="5661000" y="4936680"/>
                            <a:chExt cx="38160" cy="171720"/>
                          </a:xfrm>
                        </p:grpSpPr>
                        <p:cxnSp>
                          <p:nvCxnSpPr>
                            <p:cNvPr id="246" name="AutoShape 134"/>
                            <p:cNvCxnSpPr/>
                            <p:nvPr/>
                          </p:nvCxnSpPr>
                          <p:spPr>
                            <a:xfrm>
                              <a:off x="5661000" y="49366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47" name="AutoShape 135"/>
                            <p:cNvCxnSpPr/>
                            <p:nvPr/>
                          </p:nvCxnSpPr>
                          <p:spPr>
                            <a:xfrm>
                              <a:off x="5661000" y="51069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48" name="Group 136"/>
                          <p:cNvGrpSpPr/>
                          <p:nvPr/>
                        </p:nvGrpSpPr>
                        <p:grpSpPr>
                          <a:xfrm>
                            <a:off x="5321160" y="4935960"/>
                            <a:ext cx="38160" cy="171720"/>
                            <a:chOff x="5321160" y="4935960"/>
                            <a:chExt cx="38160" cy="171720"/>
                          </a:xfrm>
                        </p:grpSpPr>
                        <p:cxnSp>
                          <p:nvCxnSpPr>
                            <p:cNvPr id="249" name="AutoShape 137"/>
                            <p:cNvCxnSpPr/>
                            <p:nvPr/>
                          </p:nvCxnSpPr>
                          <p:spPr>
                            <a:xfrm>
                              <a:off x="5321160" y="49359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50" name="AutoShape 138"/>
                            <p:cNvCxnSpPr/>
                            <p:nvPr/>
                          </p:nvCxnSpPr>
                          <p:spPr>
                            <a:xfrm>
                              <a:off x="5321160" y="51062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51" name="Group 139"/>
                          <p:cNvGrpSpPr/>
                          <p:nvPr/>
                        </p:nvGrpSpPr>
                        <p:grpSpPr>
                          <a:xfrm>
                            <a:off x="4986360" y="4938480"/>
                            <a:ext cx="38160" cy="171720"/>
                            <a:chOff x="4986360" y="4938480"/>
                            <a:chExt cx="38160" cy="171720"/>
                          </a:xfrm>
                        </p:grpSpPr>
                        <p:cxnSp>
                          <p:nvCxnSpPr>
                            <p:cNvPr id="252" name="AutoShape 140"/>
                            <p:cNvCxnSpPr/>
                            <p:nvPr/>
                          </p:nvCxnSpPr>
                          <p:spPr>
                            <a:xfrm>
                              <a:off x="4986360" y="49384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53" name="AutoShape 141"/>
                            <p:cNvCxnSpPr/>
                            <p:nvPr/>
                          </p:nvCxnSpPr>
                          <p:spPr>
                            <a:xfrm>
                              <a:off x="4986360" y="51087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254" name="Group 142"/>
                        <p:cNvGrpSpPr/>
                        <p:nvPr/>
                      </p:nvGrpSpPr>
                      <p:grpSpPr>
                        <a:xfrm>
                          <a:off x="4153680" y="5285160"/>
                          <a:ext cx="1875960" cy="174240"/>
                          <a:chOff x="4153680" y="5285160"/>
                          <a:chExt cx="1875960" cy="174240"/>
                        </a:xfrm>
                      </p:grpSpPr>
                      <p:sp>
                        <p:nvSpPr>
                          <p:cNvPr id="255" name="Line 143"/>
                          <p:cNvSpPr/>
                          <p:nvPr/>
                        </p:nvSpPr>
                        <p:spPr>
                          <a:xfrm flipV="1">
                            <a:off x="4153680" y="528552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256" name="Group 144"/>
                          <p:cNvGrpSpPr/>
                          <p:nvPr/>
                        </p:nvGrpSpPr>
                        <p:grpSpPr>
                          <a:xfrm>
                            <a:off x="5991480" y="5285880"/>
                            <a:ext cx="38160" cy="171720"/>
                            <a:chOff x="5991480" y="5285880"/>
                            <a:chExt cx="38160" cy="171720"/>
                          </a:xfrm>
                        </p:grpSpPr>
                        <p:cxnSp>
                          <p:nvCxnSpPr>
                            <p:cNvPr id="257" name="AutoShape 145"/>
                            <p:cNvCxnSpPr/>
                            <p:nvPr/>
                          </p:nvCxnSpPr>
                          <p:spPr>
                            <a:xfrm>
                              <a:off x="5991480" y="52858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58" name="AutoShape 146"/>
                            <p:cNvCxnSpPr/>
                            <p:nvPr/>
                          </p:nvCxnSpPr>
                          <p:spPr>
                            <a:xfrm>
                              <a:off x="5991480" y="545652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59" name="Group 147"/>
                          <p:cNvGrpSpPr/>
                          <p:nvPr/>
                        </p:nvGrpSpPr>
                        <p:grpSpPr>
                          <a:xfrm>
                            <a:off x="5655600" y="5285880"/>
                            <a:ext cx="38160" cy="171720"/>
                            <a:chOff x="5655600" y="5285880"/>
                            <a:chExt cx="38160" cy="171720"/>
                          </a:xfrm>
                        </p:grpSpPr>
                        <p:cxnSp>
                          <p:nvCxnSpPr>
                            <p:cNvPr id="260" name="AutoShape 148"/>
                            <p:cNvCxnSpPr/>
                            <p:nvPr/>
                          </p:nvCxnSpPr>
                          <p:spPr>
                            <a:xfrm>
                              <a:off x="5655600" y="52858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61" name="AutoShape 149"/>
                            <p:cNvCxnSpPr/>
                            <p:nvPr/>
                          </p:nvCxnSpPr>
                          <p:spPr>
                            <a:xfrm>
                              <a:off x="5655600" y="54561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62" name="Group 150"/>
                          <p:cNvGrpSpPr/>
                          <p:nvPr/>
                        </p:nvGrpSpPr>
                        <p:grpSpPr>
                          <a:xfrm>
                            <a:off x="5315760" y="5285160"/>
                            <a:ext cx="38160" cy="171720"/>
                            <a:chOff x="5315760" y="5285160"/>
                            <a:chExt cx="38160" cy="171720"/>
                          </a:xfrm>
                        </p:grpSpPr>
                        <p:cxnSp>
                          <p:nvCxnSpPr>
                            <p:cNvPr id="263" name="AutoShape 151"/>
                            <p:cNvCxnSpPr/>
                            <p:nvPr/>
                          </p:nvCxnSpPr>
                          <p:spPr>
                            <a:xfrm>
                              <a:off x="5315760" y="52851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64" name="AutoShape 152"/>
                            <p:cNvCxnSpPr/>
                            <p:nvPr/>
                          </p:nvCxnSpPr>
                          <p:spPr>
                            <a:xfrm>
                              <a:off x="5315760" y="54554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65" name="Group 153"/>
                          <p:cNvGrpSpPr/>
                          <p:nvPr/>
                        </p:nvGrpSpPr>
                        <p:grpSpPr>
                          <a:xfrm>
                            <a:off x="4980960" y="5287680"/>
                            <a:ext cx="38160" cy="171720"/>
                            <a:chOff x="4980960" y="5287680"/>
                            <a:chExt cx="38160" cy="171720"/>
                          </a:xfrm>
                        </p:grpSpPr>
                        <p:cxnSp>
                          <p:nvCxnSpPr>
                            <p:cNvPr id="266" name="AutoShape 154"/>
                            <p:cNvCxnSpPr/>
                            <p:nvPr/>
                          </p:nvCxnSpPr>
                          <p:spPr>
                            <a:xfrm>
                              <a:off x="4980960" y="52876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67" name="AutoShape 155"/>
                            <p:cNvCxnSpPr/>
                            <p:nvPr/>
                          </p:nvCxnSpPr>
                          <p:spPr>
                            <a:xfrm>
                              <a:off x="4980960" y="54579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</p:grpSp>
                  <p:sp>
                    <p:nvSpPr>
                      <p:cNvPr id="268" name="Freeform 156"/>
                      <p:cNvSpPr/>
                      <p:nvPr/>
                    </p:nvSpPr>
                    <p:spPr>
                      <a:xfrm rot="10800000">
                        <a:off x="3736800" y="2803320"/>
                        <a:ext cx="438120" cy="259056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269" name="Text Box 157"/>
                    <p:cNvSpPr/>
                    <p:nvPr/>
                  </p:nvSpPr>
                  <p:spPr>
                    <a:xfrm>
                      <a:off x="3781080" y="4007880"/>
                      <a:ext cx="341640" cy="28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: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0" name="Group 158"/>
                  <p:cNvGrpSpPr/>
                  <p:nvPr/>
                </p:nvGrpSpPr>
                <p:grpSpPr>
                  <a:xfrm>
                    <a:off x="4203720" y="2918160"/>
                    <a:ext cx="2057760" cy="2630880"/>
                    <a:chOff x="4203720" y="2918160"/>
                    <a:chExt cx="2057760" cy="2630880"/>
                  </a:xfrm>
                </p:grpSpPr>
                <p:sp>
                  <p:nvSpPr>
                    <p:cNvPr id="271" name="Text Box 159"/>
                    <p:cNvSpPr/>
                    <p:nvPr/>
                  </p:nvSpPr>
                  <p:spPr>
                    <a:xfrm>
                      <a:off x="4208400" y="3256560"/>
                      <a:ext cx="45612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4:7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2" name="Text Box 160"/>
                    <p:cNvSpPr/>
                    <p:nvPr/>
                  </p:nvSpPr>
                  <p:spPr>
                    <a:xfrm>
                      <a:off x="4203720" y="2918160"/>
                      <a:ext cx="45612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0:3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3" name="Text Box 161"/>
                    <p:cNvSpPr/>
                    <p:nvPr/>
                  </p:nvSpPr>
                  <p:spPr>
                    <a:xfrm>
                      <a:off x="4203720" y="3599280"/>
                      <a:ext cx="45612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8:11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4" name="Text Box 162"/>
                    <p:cNvSpPr/>
                    <p:nvPr/>
                  </p:nvSpPr>
                  <p:spPr>
                    <a:xfrm>
                      <a:off x="4214520" y="3952800"/>
                      <a:ext cx="45576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12:15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Text Box 163"/>
                    <p:cNvSpPr/>
                    <p:nvPr/>
                  </p:nvSpPr>
                  <p:spPr>
                    <a:xfrm>
                      <a:off x="4208400" y="4280760"/>
                      <a:ext cx="45612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16:19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6" name="Text Box 164"/>
                    <p:cNvSpPr/>
                    <p:nvPr/>
                  </p:nvSpPr>
                  <p:spPr>
                    <a:xfrm>
                      <a:off x="4208400" y="4626360"/>
                      <a:ext cx="45612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20:23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7" name="Text Box 165"/>
                    <p:cNvSpPr/>
                    <p:nvPr/>
                  </p:nvSpPr>
                  <p:spPr>
                    <a:xfrm>
                      <a:off x="4209480" y="4970880"/>
                      <a:ext cx="45576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24:27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8" name="Text Box 166"/>
                    <p:cNvSpPr/>
                    <p:nvPr/>
                  </p:nvSpPr>
                  <p:spPr>
                    <a:xfrm>
                      <a:off x="4208400" y="5325120"/>
                      <a:ext cx="45612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28:31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279" name="Group 167"/>
                    <p:cNvGrpSpPr/>
                    <p:nvPr/>
                  </p:nvGrpSpPr>
                  <p:grpSpPr>
                    <a:xfrm>
                      <a:off x="5069880" y="2958840"/>
                      <a:ext cx="1191600" cy="2590200"/>
                      <a:chOff x="5069880" y="2958840"/>
                      <a:chExt cx="1191600" cy="2590200"/>
                    </a:xfrm>
                  </p:grpSpPr>
                  <p:sp>
                    <p:nvSpPr>
                      <p:cNvPr id="280" name="Text Box 168"/>
                      <p:cNvSpPr/>
                      <p:nvPr/>
                    </p:nvSpPr>
                    <p:spPr>
                      <a:xfrm>
                        <a:off x="5093280" y="29588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SimSun"/>
                          </a:rPr>
                          <a:t>0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1" name="Text Box 169"/>
                      <p:cNvSpPr/>
                      <p:nvPr/>
                    </p:nvSpPr>
                    <p:spPr>
                      <a:xfrm>
                        <a:off x="5434920" y="29588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2" name="Text Box 170"/>
                      <p:cNvSpPr/>
                      <p:nvPr/>
                    </p:nvSpPr>
                    <p:spPr>
                      <a:xfrm>
                        <a:off x="5772600" y="29599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3" name="Text Box 171"/>
                      <p:cNvSpPr/>
                      <p:nvPr/>
                    </p:nvSpPr>
                    <p:spPr>
                      <a:xfrm>
                        <a:off x="6104520" y="29588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3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4" name="Text Box 172"/>
                      <p:cNvSpPr/>
                      <p:nvPr/>
                    </p:nvSpPr>
                    <p:spPr>
                      <a:xfrm>
                        <a:off x="5090040" y="330228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4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5" name="Text Box 173"/>
                      <p:cNvSpPr/>
                      <p:nvPr/>
                    </p:nvSpPr>
                    <p:spPr>
                      <a:xfrm>
                        <a:off x="5432040" y="330228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5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6" name="Text Box 174"/>
                      <p:cNvSpPr/>
                      <p:nvPr/>
                    </p:nvSpPr>
                    <p:spPr>
                      <a:xfrm>
                        <a:off x="5769720" y="330336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6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7" name="Text Box 175"/>
                      <p:cNvSpPr/>
                      <p:nvPr/>
                    </p:nvSpPr>
                    <p:spPr>
                      <a:xfrm>
                        <a:off x="6101640" y="330228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7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8" name="Text Box 176"/>
                      <p:cNvSpPr/>
                      <p:nvPr/>
                    </p:nvSpPr>
                    <p:spPr>
                      <a:xfrm>
                        <a:off x="5084280" y="36439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8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9" name="Text Box 177"/>
                      <p:cNvSpPr/>
                      <p:nvPr/>
                    </p:nvSpPr>
                    <p:spPr>
                      <a:xfrm>
                        <a:off x="5425920" y="36439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9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0" name="Text Box 178"/>
                      <p:cNvSpPr/>
                      <p:nvPr/>
                    </p:nvSpPr>
                    <p:spPr>
                      <a:xfrm>
                        <a:off x="5763960" y="364500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0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1" name="Text Box 179"/>
                      <p:cNvSpPr/>
                      <p:nvPr/>
                    </p:nvSpPr>
                    <p:spPr>
                      <a:xfrm>
                        <a:off x="6095880" y="36439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1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2" name="Text Box 180"/>
                      <p:cNvSpPr/>
                      <p:nvPr/>
                    </p:nvSpPr>
                    <p:spPr>
                      <a:xfrm>
                        <a:off x="5084280" y="39895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2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3" name="Text Box 181"/>
                      <p:cNvSpPr/>
                      <p:nvPr/>
                    </p:nvSpPr>
                    <p:spPr>
                      <a:xfrm>
                        <a:off x="5425920" y="39895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3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4" name="Text Box 182"/>
                      <p:cNvSpPr/>
                      <p:nvPr/>
                    </p:nvSpPr>
                    <p:spPr>
                      <a:xfrm>
                        <a:off x="5763960" y="399060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4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5" name="Text Box 183"/>
                      <p:cNvSpPr/>
                      <p:nvPr/>
                    </p:nvSpPr>
                    <p:spPr>
                      <a:xfrm>
                        <a:off x="6095880" y="39895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5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6" name="Text Box 184"/>
                      <p:cNvSpPr/>
                      <p:nvPr/>
                    </p:nvSpPr>
                    <p:spPr>
                      <a:xfrm>
                        <a:off x="5084280" y="43243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6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7" name="Text Box 185"/>
                      <p:cNvSpPr/>
                      <p:nvPr/>
                    </p:nvSpPr>
                    <p:spPr>
                      <a:xfrm>
                        <a:off x="5425920" y="43243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7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8" name="Text Box 186"/>
                      <p:cNvSpPr/>
                      <p:nvPr/>
                    </p:nvSpPr>
                    <p:spPr>
                      <a:xfrm>
                        <a:off x="5763960" y="432540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8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9" name="Text Box 187"/>
                      <p:cNvSpPr/>
                      <p:nvPr/>
                    </p:nvSpPr>
                    <p:spPr>
                      <a:xfrm>
                        <a:off x="6095880" y="43243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9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0" name="Text Box 188"/>
                      <p:cNvSpPr/>
                      <p:nvPr/>
                    </p:nvSpPr>
                    <p:spPr>
                      <a:xfrm>
                        <a:off x="5078520" y="467208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0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1" name="Text Box 189"/>
                      <p:cNvSpPr/>
                      <p:nvPr/>
                    </p:nvSpPr>
                    <p:spPr>
                      <a:xfrm>
                        <a:off x="5420160" y="467208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1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2" name="Text Box 190"/>
                      <p:cNvSpPr/>
                      <p:nvPr/>
                    </p:nvSpPr>
                    <p:spPr>
                      <a:xfrm>
                        <a:off x="5758200" y="467280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2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3" name="Text Box 191"/>
                      <p:cNvSpPr/>
                      <p:nvPr/>
                    </p:nvSpPr>
                    <p:spPr>
                      <a:xfrm>
                        <a:off x="6090120" y="467208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3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4" name="Text Box 192"/>
                      <p:cNvSpPr/>
                      <p:nvPr/>
                    </p:nvSpPr>
                    <p:spPr>
                      <a:xfrm>
                        <a:off x="5069880" y="50155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4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5" name="Text Box 193"/>
                      <p:cNvSpPr/>
                      <p:nvPr/>
                    </p:nvSpPr>
                    <p:spPr>
                      <a:xfrm>
                        <a:off x="5411520" y="50155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5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6" name="Text Box 194"/>
                      <p:cNvSpPr/>
                      <p:nvPr/>
                    </p:nvSpPr>
                    <p:spPr>
                      <a:xfrm>
                        <a:off x="5749200" y="50162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6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7" name="Text Box 195"/>
                      <p:cNvSpPr/>
                      <p:nvPr/>
                    </p:nvSpPr>
                    <p:spPr>
                      <a:xfrm>
                        <a:off x="6081120" y="50155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7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8" name="Text Box 196"/>
                      <p:cNvSpPr/>
                      <p:nvPr/>
                    </p:nvSpPr>
                    <p:spPr>
                      <a:xfrm>
                        <a:off x="5072400" y="53582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8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9" name="Text Box 197"/>
                      <p:cNvSpPr/>
                      <p:nvPr/>
                    </p:nvSpPr>
                    <p:spPr>
                      <a:xfrm>
                        <a:off x="5414400" y="53582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9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10" name="Text Box 198"/>
                      <p:cNvSpPr/>
                      <p:nvPr/>
                    </p:nvSpPr>
                    <p:spPr>
                      <a:xfrm>
                        <a:off x="5752080" y="535896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30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11" name="Text Box 199"/>
                      <p:cNvSpPr/>
                      <p:nvPr/>
                    </p:nvSpPr>
                    <p:spPr>
                      <a:xfrm>
                        <a:off x="6084360" y="53582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31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12" name="Text Box 200"/>
                <p:cNvSpPr/>
                <p:nvPr/>
              </p:nvSpPr>
              <p:spPr>
                <a:xfrm>
                  <a:off x="2234880" y="3999960"/>
                  <a:ext cx="1374480" cy="280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A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A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1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A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12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A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11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A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10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13" name="Group 201"/>
                <p:cNvGrpSpPr/>
                <p:nvPr/>
              </p:nvGrpSpPr>
              <p:grpSpPr>
                <a:xfrm>
                  <a:off x="5960160" y="2880000"/>
                  <a:ext cx="523440" cy="2408040"/>
                  <a:chOff x="5960160" y="2880000"/>
                  <a:chExt cx="523440" cy="2408040"/>
                </a:xfrm>
              </p:grpSpPr>
              <p:cxnSp>
                <p:nvCxnSpPr>
                  <p:cNvPr id="314" name="AutoShape 202"/>
                  <p:cNvCxnSpPr/>
                  <p:nvPr/>
                </p:nvCxnSpPr>
                <p:spPr>
                  <a:xfrm>
                    <a:off x="5982480" y="2880000"/>
                    <a:ext cx="4791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5" name="AutoShape 203"/>
                  <p:cNvCxnSpPr/>
                  <p:nvPr/>
                </p:nvCxnSpPr>
                <p:spPr>
                  <a:xfrm>
                    <a:off x="5972040" y="3222360"/>
                    <a:ext cx="47880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6" name="AutoShape 204"/>
                  <p:cNvCxnSpPr/>
                  <p:nvPr/>
                </p:nvCxnSpPr>
                <p:spPr>
                  <a:xfrm>
                    <a:off x="5960160" y="3569040"/>
                    <a:ext cx="4791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7" name="AutoShape 205"/>
                  <p:cNvCxnSpPr/>
                  <p:nvPr/>
                </p:nvCxnSpPr>
                <p:spPr>
                  <a:xfrm>
                    <a:off x="5996880" y="3915720"/>
                    <a:ext cx="4791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8" name="AutoShape 206"/>
                  <p:cNvCxnSpPr/>
                  <p:nvPr/>
                </p:nvCxnSpPr>
                <p:spPr>
                  <a:xfrm>
                    <a:off x="6005160" y="4245840"/>
                    <a:ext cx="47880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9" name="AutoShape 207"/>
                  <p:cNvCxnSpPr/>
                  <p:nvPr/>
                </p:nvCxnSpPr>
                <p:spPr>
                  <a:xfrm>
                    <a:off x="5994000" y="4594320"/>
                    <a:ext cx="4791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20" name="AutoShape 208"/>
                  <p:cNvCxnSpPr/>
                  <p:nvPr/>
                </p:nvCxnSpPr>
                <p:spPr>
                  <a:xfrm>
                    <a:off x="5982480" y="4937760"/>
                    <a:ext cx="4791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21" name="AutoShape 209"/>
                  <p:cNvCxnSpPr/>
                  <p:nvPr/>
                </p:nvCxnSpPr>
                <p:spPr>
                  <a:xfrm>
                    <a:off x="5990040" y="5287320"/>
                    <a:ext cx="4791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sp>
              <p:nvSpPr>
                <p:cNvPr id="322" name="Rectangle 210"/>
                <p:cNvSpPr/>
                <p:nvPr/>
              </p:nvSpPr>
              <p:spPr>
                <a:xfrm>
                  <a:off x="6425280" y="2803320"/>
                  <a:ext cx="281880" cy="2823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cxnSp>
            <p:nvCxnSpPr>
              <p:cNvPr id="323" name="AutoShape 212"/>
              <p:cNvCxnSpPr/>
              <p:nvPr/>
            </p:nvCxnSpPr>
            <p:spPr>
              <a:xfrm>
                <a:off x="6707520" y="4089600"/>
                <a:ext cx="102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cxnSp>
          <p:nvCxnSpPr>
            <p:cNvPr id="324" name="AutoShape 213"/>
            <p:cNvCxnSpPr/>
            <p:nvPr/>
          </p:nvCxnSpPr>
          <p:spPr>
            <a:xfrm flipH="1">
              <a:off x="3497400" y="2959920"/>
              <a:ext cx="509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5" name="Text Box 214"/>
            <p:cNvSpPr/>
            <p:nvPr/>
          </p:nvSpPr>
          <p:spPr>
            <a:xfrm>
              <a:off x="2285640" y="2919600"/>
              <a:ext cx="1143000" cy="280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Word-line Enable Bi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ck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erarchical word line with divided bit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457200" y="3276720"/>
            <a:ext cx="3505320" cy="2438280"/>
            <a:chOff x="457200" y="3276720"/>
            <a:chExt cx="3505320" cy="2438280"/>
          </a:xfrm>
        </p:grpSpPr>
        <p:grpSp>
          <p:nvGrpSpPr>
            <p:cNvPr id="329" name="Group 3"/>
            <p:cNvGrpSpPr/>
            <p:nvPr/>
          </p:nvGrpSpPr>
          <p:grpSpPr>
            <a:xfrm>
              <a:off x="457200" y="3276720"/>
              <a:ext cx="3505320" cy="2438280"/>
              <a:chOff x="457200" y="3276720"/>
              <a:chExt cx="3505320" cy="2438280"/>
            </a:xfrm>
          </p:grpSpPr>
          <p:sp>
            <p:nvSpPr>
              <p:cNvPr id="330" name="Rectangle 4"/>
              <p:cNvSpPr/>
              <p:nvPr/>
            </p:nvSpPr>
            <p:spPr>
              <a:xfrm>
                <a:off x="457200" y="3276720"/>
                <a:ext cx="350532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31" name="Group 5"/>
              <p:cNvGrpSpPr/>
              <p:nvPr/>
            </p:nvGrpSpPr>
            <p:grpSpPr>
              <a:xfrm>
                <a:off x="649440" y="3352680"/>
                <a:ext cx="3058920" cy="2110680"/>
                <a:chOff x="649440" y="3352680"/>
                <a:chExt cx="3058920" cy="2110680"/>
              </a:xfrm>
            </p:grpSpPr>
            <p:grpSp>
              <p:nvGrpSpPr>
                <p:cNvPr id="332" name="Group 6"/>
                <p:cNvGrpSpPr/>
                <p:nvPr/>
              </p:nvGrpSpPr>
              <p:grpSpPr>
                <a:xfrm>
                  <a:off x="1023840" y="3545280"/>
                  <a:ext cx="2246040" cy="1918080"/>
                  <a:chOff x="1023840" y="3545280"/>
                  <a:chExt cx="2246040" cy="1918080"/>
                </a:xfrm>
              </p:grpSpPr>
              <p:cxnSp>
                <p:nvCxnSpPr>
                  <p:cNvPr id="333" name="AutoShape 7"/>
                  <p:cNvCxnSpPr/>
                  <p:nvPr/>
                </p:nvCxnSpPr>
                <p:spPr>
                  <a:xfrm flipH="1">
                    <a:off x="1023840" y="4321080"/>
                    <a:ext cx="3333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34" name="AutoShape 8"/>
                  <p:cNvCxnSpPr/>
                  <p:nvPr/>
                </p:nvCxnSpPr>
                <p:spPr>
                  <a:xfrm flipV="1">
                    <a:off x="1600200" y="3634560"/>
                    <a:ext cx="1080" cy="4392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35" name="AutoShape 9"/>
                  <p:cNvCxnSpPr/>
                  <p:nvPr/>
                </p:nvCxnSpPr>
                <p:spPr>
                  <a:xfrm flipV="1">
                    <a:off x="2746080" y="3634560"/>
                    <a:ext cx="1080" cy="4392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36" name="AutoShape 10"/>
                  <p:cNvCxnSpPr/>
                  <p:nvPr/>
                </p:nvCxnSpPr>
                <p:spPr>
                  <a:xfrm flipH="1">
                    <a:off x="2936880" y="4320360"/>
                    <a:ext cx="3333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grpSp>
                <p:nvGrpSpPr>
                  <p:cNvPr id="337" name="Group 11"/>
                  <p:cNvGrpSpPr/>
                  <p:nvPr/>
                </p:nvGrpSpPr>
                <p:grpSpPr>
                  <a:xfrm>
                    <a:off x="1356840" y="3545280"/>
                    <a:ext cx="1634400" cy="1918080"/>
                    <a:chOff x="1356840" y="3545280"/>
                    <a:chExt cx="1634400" cy="1918080"/>
                  </a:xfrm>
                </p:grpSpPr>
                <p:sp>
                  <p:nvSpPr>
                    <p:cNvPr id="338" name="Freeform 12"/>
                    <p:cNvSpPr/>
                    <p:nvPr/>
                  </p:nvSpPr>
                  <p:spPr>
                    <a:xfrm>
                      <a:off x="2247480" y="4459320"/>
                      <a:ext cx="127440" cy="669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39" name="Freeform 13"/>
                    <p:cNvSpPr/>
                    <p:nvPr/>
                  </p:nvSpPr>
                  <p:spPr>
                    <a:xfrm>
                      <a:off x="1976760" y="5396400"/>
                      <a:ext cx="127440" cy="669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340" name="Group 14"/>
                    <p:cNvGrpSpPr/>
                    <p:nvPr/>
                  </p:nvGrpSpPr>
                  <p:grpSpPr>
                    <a:xfrm>
                      <a:off x="1992960" y="4491360"/>
                      <a:ext cx="97560" cy="101880"/>
                      <a:chOff x="1992960" y="4491360"/>
                      <a:chExt cx="97560" cy="101880"/>
                    </a:xfrm>
                  </p:grpSpPr>
                  <p:sp>
                    <p:nvSpPr>
                      <p:cNvPr id="341" name="Line 15"/>
                      <p:cNvSpPr/>
                      <p:nvPr/>
                    </p:nvSpPr>
                    <p:spPr>
                      <a:xfrm>
                        <a:off x="1992960" y="4496400"/>
                        <a:ext cx="97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42" name="Line 16"/>
                      <p:cNvSpPr/>
                      <p:nvPr/>
                    </p:nvSpPr>
                    <p:spPr>
                      <a:xfrm>
                        <a:off x="2041920" y="4491360"/>
                        <a:ext cx="360" cy="1018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343" name="Line 17"/>
                    <p:cNvSpPr/>
                    <p:nvPr/>
                  </p:nvSpPr>
                  <p:spPr>
                    <a:xfrm>
                      <a:off x="2500920" y="4022640"/>
                      <a:ext cx="0" cy="93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44" name="Line 18"/>
                    <p:cNvSpPr/>
                    <p:nvPr/>
                  </p:nvSpPr>
                  <p:spPr>
                    <a:xfrm>
                      <a:off x="1843560" y="4022640"/>
                      <a:ext cx="0" cy="93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345" name="Group 19"/>
                    <p:cNvGrpSpPr/>
                    <p:nvPr/>
                  </p:nvGrpSpPr>
                  <p:grpSpPr>
                    <a:xfrm>
                      <a:off x="2502360" y="4073040"/>
                      <a:ext cx="488880" cy="247320"/>
                      <a:chOff x="2502360" y="4073040"/>
                      <a:chExt cx="488880" cy="247320"/>
                    </a:xfrm>
                  </p:grpSpPr>
                  <p:sp>
                    <p:nvSpPr>
                      <p:cNvPr id="346" name="Freeform 20"/>
                      <p:cNvSpPr/>
                      <p:nvPr/>
                    </p:nvSpPr>
                    <p:spPr>
                      <a:xfrm rot="5400000">
                        <a:off x="2684880" y="4014000"/>
                        <a:ext cx="123480" cy="48888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47" name="Line 21"/>
                      <p:cNvSpPr/>
                      <p:nvPr/>
                    </p:nvSpPr>
                    <p:spPr>
                      <a:xfrm flipH="1">
                        <a:off x="2640960" y="4151160"/>
                        <a:ext cx="212400" cy="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48" name="Line 22"/>
                      <p:cNvSpPr/>
                      <p:nvPr/>
                    </p:nvSpPr>
                    <p:spPr>
                      <a:xfrm flipH="1">
                        <a:off x="2746080" y="4073040"/>
                        <a:ext cx="360" cy="78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320" bIns="31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349" name="Group 23"/>
                    <p:cNvGrpSpPr/>
                    <p:nvPr/>
                  </p:nvGrpSpPr>
                  <p:grpSpPr>
                    <a:xfrm>
                      <a:off x="1356840" y="4073760"/>
                      <a:ext cx="488880" cy="247320"/>
                      <a:chOff x="1356840" y="4073760"/>
                      <a:chExt cx="488880" cy="247320"/>
                    </a:xfrm>
                  </p:grpSpPr>
                  <p:sp>
                    <p:nvSpPr>
                      <p:cNvPr id="350" name="Freeform 24"/>
                      <p:cNvSpPr/>
                      <p:nvPr/>
                    </p:nvSpPr>
                    <p:spPr>
                      <a:xfrm rot="5400000">
                        <a:off x="1539360" y="4014720"/>
                        <a:ext cx="123480" cy="48888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51" name="Line 25"/>
                      <p:cNvSpPr/>
                      <p:nvPr/>
                    </p:nvSpPr>
                    <p:spPr>
                      <a:xfrm flipH="1">
                        <a:off x="1495440" y="4151880"/>
                        <a:ext cx="212400" cy="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52" name="Line 26"/>
                      <p:cNvSpPr/>
                      <p:nvPr/>
                    </p:nvSpPr>
                    <p:spPr>
                      <a:xfrm flipH="1">
                        <a:off x="1600560" y="4073760"/>
                        <a:ext cx="360" cy="78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320" bIns="31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353" name="Group 27"/>
                    <p:cNvGrpSpPr/>
                    <p:nvPr/>
                  </p:nvGrpSpPr>
                  <p:grpSpPr>
                    <a:xfrm>
                      <a:off x="2260080" y="3545280"/>
                      <a:ext cx="97560" cy="103680"/>
                      <a:chOff x="2260080" y="3545280"/>
                      <a:chExt cx="97560" cy="103680"/>
                    </a:xfrm>
                  </p:grpSpPr>
                  <p:sp>
                    <p:nvSpPr>
                      <p:cNvPr id="354" name="Line 28"/>
                      <p:cNvSpPr/>
                      <p:nvPr/>
                    </p:nvSpPr>
                    <p:spPr>
                      <a:xfrm>
                        <a:off x="2260080" y="3545280"/>
                        <a:ext cx="97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55" name="Line 29"/>
                      <p:cNvSpPr/>
                      <p:nvPr/>
                    </p:nvSpPr>
                    <p:spPr>
                      <a:xfrm>
                        <a:off x="2309040" y="3546360"/>
                        <a:ext cx="360" cy="1026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356" name="Group 30"/>
                    <p:cNvGrpSpPr/>
                    <p:nvPr/>
                  </p:nvGrpSpPr>
                  <p:grpSpPr>
                    <a:xfrm>
                      <a:off x="1844640" y="4500360"/>
                      <a:ext cx="652320" cy="896760"/>
                      <a:chOff x="1844640" y="4500360"/>
                      <a:chExt cx="652320" cy="896760"/>
                    </a:xfrm>
                  </p:grpSpPr>
                  <p:grpSp>
                    <p:nvGrpSpPr>
                      <p:cNvPr id="357" name="Group 31"/>
                      <p:cNvGrpSpPr/>
                      <p:nvPr/>
                    </p:nvGrpSpPr>
                    <p:grpSpPr>
                      <a:xfrm>
                        <a:off x="2040120" y="4885560"/>
                        <a:ext cx="236520" cy="511560"/>
                        <a:chOff x="2040120" y="4885560"/>
                        <a:chExt cx="236520" cy="511560"/>
                      </a:xfrm>
                    </p:grpSpPr>
                    <p:sp>
                      <p:nvSpPr>
                        <p:cNvPr id="358" name="Freeform 32"/>
                        <p:cNvSpPr/>
                        <p:nvPr/>
                      </p:nvSpPr>
                      <p:spPr>
                        <a:xfrm flipH="1">
                          <a:off x="2040120" y="4885560"/>
                          <a:ext cx="118080" cy="51156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59" name="Line 33"/>
                        <p:cNvSpPr/>
                        <p:nvPr/>
                      </p:nvSpPr>
                      <p:spPr>
                        <a:xfrm flipH="1">
                          <a:off x="2201400" y="5029560"/>
                          <a:ext cx="360" cy="22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60" name="Line 34"/>
                        <p:cNvSpPr/>
                        <p:nvPr/>
                      </p:nvSpPr>
                      <p:spPr>
                        <a:xfrm flipH="1">
                          <a:off x="2201760" y="5141880"/>
                          <a:ext cx="74880" cy="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361" name="Line 35"/>
                      <p:cNvSpPr/>
                      <p:nvPr/>
                    </p:nvSpPr>
                    <p:spPr>
                      <a:xfrm flipH="1">
                        <a:off x="1844640" y="4955040"/>
                        <a:ext cx="196200" cy="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62" name="Group 36"/>
                      <p:cNvGrpSpPr/>
                      <p:nvPr/>
                    </p:nvGrpSpPr>
                    <p:grpSpPr>
                      <a:xfrm>
                        <a:off x="2040120" y="4500360"/>
                        <a:ext cx="236520" cy="512640"/>
                        <a:chOff x="2040120" y="4500360"/>
                        <a:chExt cx="236520" cy="512640"/>
                      </a:xfrm>
                    </p:grpSpPr>
                    <p:sp>
                      <p:nvSpPr>
                        <p:cNvPr id="363" name="Line 37"/>
                        <p:cNvSpPr/>
                        <p:nvPr/>
                      </p:nvSpPr>
                      <p:spPr>
                        <a:xfrm flipH="1">
                          <a:off x="2201040" y="4645800"/>
                          <a:ext cx="360" cy="223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64" name="Freeform 38"/>
                        <p:cNvSpPr/>
                        <p:nvPr/>
                      </p:nvSpPr>
                      <p:spPr>
                        <a:xfrm flipH="1">
                          <a:off x="2039760" y="4500360"/>
                          <a:ext cx="117720" cy="51264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65" name="Oval 39"/>
                        <p:cNvSpPr/>
                        <p:nvPr/>
                      </p:nvSpPr>
                      <p:spPr>
                        <a:xfrm flipH="1">
                          <a:off x="2213280" y="4726440"/>
                          <a:ext cx="63360" cy="662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0" bIns="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366" name="Freeform 40"/>
                      <p:cNvSpPr/>
                      <p:nvPr/>
                    </p:nvSpPr>
                    <p:spPr>
                      <a:xfrm flipH="1">
                        <a:off x="2223360" y="4756680"/>
                        <a:ext cx="151920" cy="38376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67" name="Line 41"/>
                      <p:cNvSpPr/>
                      <p:nvPr/>
                    </p:nvSpPr>
                    <p:spPr>
                      <a:xfrm flipH="1">
                        <a:off x="2374920" y="4957200"/>
                        <a:ext cx="122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368" name="Group 42"/>
                    <p:cNvGrpSpPr/>
                    <p:nvPr/>
                  </p:nvGrpSpPr>
                  <p:grpSpPr>
                    <a:xfrm>
                      <a:off x="1851480" y="3570120"/>
                      <a:ext cx="653040" cy="897120"/>
                      <a:chOff x="1851480" y="3570120"/>
                      <a:chExt cx="653040" cy="897120"/>
                    </a:xfrm>
                  </p:grpSpPr>
                  <p:grpSp>
                    <p:nvGrpSpPr>
                      <p:cNvPr id="369" name="Group 43"/>
                      <p:cNvGrpSpPr/>
                      <p:nvPr/>
                    </p:nvGrpSpPr>
                    <p:grpSpPr>
                      <a:xfrm>
                        <a:off x="2072160" y="3955320"/>
                        <a:ext cx="236520" cy="511920"/>
                        <a:chOff x="2072160" y="3955320"/>
                        <a:chExt cx="236520" cy="511920"/>
                      </a:xfrm>
                    </p:grpSpPr>
                    <p:sp>
                      <p:nvSpPr>
                        <p:cNvPr id="370" name="Freeform 44"/>
                        <p:cNvSpPr/>
                        <p:nvPr/>
                      </p:nvSpPr>
                      <p:spPr>
                        <a:xfrm>
                          <a:off x="2190600" y="3955320"/>
                          <a:ext cx="118080" cy="51192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71" name="Line 45"/>
                        <p:cNvSpPr/>
                        <p:nvPr/>
                      </p:nvSpPr>
                      <p:spPr>
                        <a:xfrm>
                          <a:off x="2147040" y="4099680"/>
                          <a:ext cx="360" cy="22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72" name="Line 46"/>
                        <p:cNvSpPr/>
                        <p:nvPr/>
                      </p:nvSpPr>
                      <p:spPr>
                        <a:xfrm>
                          <a:off x="2072160" y="4211640"/>
                          <a:ext cx="74880" cy="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373" name="Line 47"/>
                      <p:cNvSpPr/>
                      <p:nvPr/>
                    </p:nvSpPr>
                    <p:spPr>
                      <a:xfrm>
                        <a:off x="2307960" y="4022280"/>
                        <a:ext cx="196560" cy="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74" name="Group 48"/>
                      <p:cNvGrpSpPr/>
                      <p:nvPr/>
                    </p:nvGrpSpPr>
                    <p:grpSpPr>
                      <a:xfrm>
                        <a:off x="2072160" y="3570120"/>
                        <a:ext cx="236520" cy="512640"/>
                        <a:chOff x="2072160" y="3570120"/>
                        <a:chExt cx="236520" cy="512640"/>
                      </a:xfrm>
                    </p:grpSpPr>
                    <p:sp>
                      <p:nvSpPr>
                        <p:cNvPr id="375" name="Line 49"/>
                        <p:cNvSpPr/>
                        <p:nvPr/>
                      </p:nvSpPr>
                      <p:spPr>
                        <a:xfrm>
                          <a:off x="2147400" y="3715560"/>
                          <a:ext cx="360" cy="223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76" name="Freeform 50"/>
                        <p:cNvSpPr/>
                        <p:nvPr/>
                      </p:nvSpPr>
                      <p:spPr>
                        <a:xfrm>
                          <a:off x="2190960" y="3570120"/>
                          <a:ext cx="117720" cy="51264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77" name="Oval 51"/>
                        <p:cNvSpPr/>
                        <p:nvPr/>
                      </p:nvSpPr>
                      <p:spPr>
                        <a:xfrm>
                          <a:off x="2072160" y="3796200"/>
                          <a:ext cx="63360" cy="662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0" bIns="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378" name="Freeform 52"/>
                      <p:cNvSpPr/>
                      <p:nvPr/>
                    </p:nvSpPr>
                    <p:spPr>
                      <a:xfrm>
                        <a:off x="1973520" y="3826440"/>
                        <a:ext cx="151920" cy="38376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79" name="Line 53"/>
                      <p:cNvSpPr/>
                      <p:nvPr/>
                    </p:nvSpPr>
                    <p:spPr>
                      <a:xfrm>
                        <a:off x="1851480" y="4024800"/>
                        <a:ext cx="122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80" name="Group 54"/>
                <p:cNvGrpSpPr/>
                <p:nvPr/>
              </p:nvGrpSpPr>
              <p:grpSpPr>
                <a:xfrm>
                  <a:off x="649440" y="3352680"/>
                  <a:ext cx="3058920" cy="1030680"/>
                  <a:chOff x="649440" y="3352680"/>
                  <a:chExt cx="3058920" cy="1030680"/>
                </a:xfrm>
              </p:grpSpPr>
              <p:sp>
                <p:nvSpPr>
                  <p:cNvPr id="381" name="Text Box 55"/>
                  <p:cNvSpPr/>
                  <p:nvPr/>
                </p:nvSpPr>
                <p:spPr>
                  <a:xfrm>
                    <a:off x="649440" y="4246200"/>
                    <a:ext cx="378360" cy="13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r"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Calibri"/>
                        <a:ea typeface="SimSun"/>
                      </a:rPr>
                      <a:t>Local B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2" name="Text Box 56"/>
                  <p:cNvSpPr/>
                  <p:nvPr/>
                </p:nvSpPr>
                <p:spPr>
                  <a:xfrm>
                    <a:off x="3273840" y="4242240"/>
                    <a:ext cx="434520" cy="13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Calibri"/>
                        <a:ea typeface="SimSun"/>
                      </a:rPr>
                      <a:t>Local BLB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3" name="Text Box 57"/>
                  <p:cNvSpPr/>
                  <p:nvPr/>
                </p:nvSpPr>
                <p:spPr>
                  <a:xfrm>
                    <a:off x="1404360" y="3352680"/>
                    <a:ext cx="398160" cy="28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Calibri"/>
                        <a:ea typeface="SimSun"/>
                      </a:rPr>
                      <a:t>Local W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4" name="Text Box 58"/>
                  <p:cNvSpPr/>
                  <p:nvPr/>
                </p:nvSpPr>
                <p:spPr>
                  <a:xfrm>
                    <a:off x="2539080" y="3352680"/>
                    <a:ext cx="398160" cy="28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Calibri"/>
                        <a:ea typeface="SimSun"/>
                      </a:rPr>
                      <a:t>Local W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385" name="Text Box 59"/>
              <p:cNvSpPr/>
              <p:nvPr/>
            </p:nvSpPr>
            <p:spPr>
              <a:xfrm>
                <a:off x="1338120" y="5532840"/>
                <a:ext cx="1780560" cy="136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Calibri"/>
                    <a:ea typeface="SimSun"/>
                  </a:rPr>
                  <a:t>Transistors use 0.5 um technology.  Sizes shown represent widths of devices.</a:t>
                </a:r>
                <a:endParaRPr b="0" lang="en-US" sz="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6" name="Text Box 60"/>
            <p:cNvSpPr/>
            <p:nvPr/>
          </p:nvSpPr>
          <p:spPr>
            <a:xfrm>
              <a:off x="2647800" y="4353840"/>
              <a:ext cx="216720" cy="136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1.5u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Text Box 61"/>
            <p:cNvSpPr/>
            <p:nvPr/>
          </p:nvSpPr>
          <p:spPr>
            <a:xfrm>
              <a:off x="1501920" y="4353840"/>
              <a:ext cx="217080" cy="136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1.5u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Text Box 62"/>
            <p:cNvSpPr/>
            <p:nvPr/>
          </p:nvSpPr>
          <p:spPr>
            <a:xfrm>
              <a:off x="1909440" y="4700160"/>
              <a:ext cx="216720" cy="136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1.5u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Text Box 63"/>
            <p:cNvSpPr/>
            <p:nvPr/>
          </p:nvSpPr>
          <p:spPr>
            <a:xfrm>
              <a:off x="1909440" y="5072040"/>
              <a:ext cx="216720" cy="136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4.5u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Text Box 64"/>
            <p:cNvSpPr/>
            <p:nvPr/>
          </p:nvSpPr>
          <p:spPr>
            <a:xfrm>
              <a:off x="2249640" y="4158720"/>
              <a:ext cx="216720" cy="136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4.5u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Group 65"/>
          <p:cNvGrpSpPr/>
          <p:nvPr/>
        </p:nvGrpSpPr>
        <p:grpSpPr>
          <a:xfrm>
            <a:off x="4191120" y="2590920"/>
            <a:ext cx="4495680" cy="3733560"/>
            <a:chOff x="4191120" y="2590920"/>
            <a:chExt cx="4495680" cy="3733560"/>
          </a:xfrm>
        </p:grpSpPr>
        <p:grpSp>
          <p:nvGrpSpPr>
            <p:cNvPr id="392" name="Group 66"/>
            <p:cNvGrpSpPr/>
            <p:nvPr/>
          </p:nvGrpSpPr>
          <p:grpSpPr>
            <a:xfrm>
              <a:off x="4191120" y="2590920"/>
              <a:ext cx="4495680" cy="3733560"/>
              <a:chOff x="4191120" y="2590920"/>
              <a:chExt cx="4495680" cy="3733560"/>
            </a:xfrm>
          </p:grpSpPr>
          <p:sp>
            <p:nvSpPr>
              <p:cNvPr id="393" name="Rectangle 67"/>
              <p:cNvSpPr/>
              <p:nvPr/>
            </p:nvSpPr>
            <p:spPr>
              <a:xfrm>
                <a:off x="4191120" y="2590920"/>
                <a:ext cx="4495680" cy="37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94" name="Group 68"/>
              <p:cNvGrpSpPr/>
              <p:nvPr/>
            </p:nvGrpSpPr>
            <p:grpSpPr>
              <a:xfrm>
                <a:off x="4221720" y="2839680"/>
                <a:ext cx="4395240" cy="3411720"/>
                <a:chOff x="4221720" y="2839680"/>
                <a:chExt cx="4395240" cy="3411720"/>
              </a:xfrm>
            </p:grpSpPr>
            <p:sp>
              <p:nvSpPr>
                <p:cNvPr id="395" name="Text Box 69"/>
                <p:cNvSpPr/>
                <p:nvPr/>
              </p:nvSpPr>
              <p:spPr>
                <a:xfrm>
                  <a:off x="8034480" y="3121920"/>
                  <a:ext cx="582480" cy="3358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To local word-line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6" name="Text Box 70"/>
                <p:cNvSpPr/>
                <p:nvPr/>
              </p:nvSpPr>
              <p:spPr>
                <a:xfrm>
                  <a:off x="4789080" y="6044040"/>
                  <a:ext cx="3223800" cy="2073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Numbers shown by inverters are ratios relative to minimum sized inverter</a:t>
                  </a:r>
                  <a:endParaRPr b="0" lang="en-US" sz="5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97" name="Group 71"/>
                <p:cNvGrpSpPr/>
                <p:nvPr/>
              </p:nvGrpSpPr>
              <p:grpSpPr>
                <a:xfrm>
                  <a:off x="4221720" y="2839680"/>
                  <a:ext cx="3989160" cy="3121200"/>
                  <a:chOff x="4221720" y="2839680"/>
                  <a:chExt cx="3989160" cy="3121200"/>
                </a:xfrm>
              </p:grpSpPr>
              <p:grpSp>
                <p:nvGrpSpPr>
                  <p:cNvPr id="398" name="Group 72"/>
                  <p:cNvGrpSpPr/>
                  <p:nvPr/>
                </p:nvGrpSpPr>
                <p:grpSpPr>
                  <a:xfrm>
                    <a:off x="6461280" y="4923000"/>
                    <a:ext cx="564480" cy="225000"/>
                    <a:chOff x="6461280" y="4923000"/>
                    <a:chExt cx="564480" cy="225000"/>
                  </a:xfrm>
                </p:grpSpPr>
                <p:sp>
                  <p:nvSpPr>
                    <p:cNvPr id="399" name="Text Box 73"/>
                    <p:cNvSpPr/>
                    <p:nvPr/>
                  </p:nvSpPr>
                  <p:spPr>
                    <a:xfrm>
                      <a:off x="6461280" y="4929840"/>
                      <a:ext cx="242640" cy="218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0" name="Text Box 74"/>
                    <p:cNvSpPr/>
                    <p:nvPr/>
                  </p:nvSpPr>
                  <p:spPr>
                    <a:xfrm>
                      <a:off x="6783120" y="4923000"/>
                      <a:ext cx="242640" cy="217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401" name="Group 75"/>
                  <p:cNvGrpSpPr/>
                  <p:nvPr/>
                </p:nvGrpSpPr>
                <p:grpSpPr>
                  <a:xfrm>
                    <a:off x="4221720" y="2839680"/>
                    <a:ext cx="3989160" cy="3121200"/>
                    <a:chOff x="4221720" y="2839680"/>
                    <a:chExt cx="3989160" cy="3121200"/>
                  </a:xfrm>
                </p:grpSpPr>
                <p:sp>
                  <p:nvSpPr>
                    <p:cNvPr id="402" name="Text Box 76"/>
                    <p:cNvSpPr/>
                    <p:nvPr/>
                  </p:nvSpPr>
                  <p:spPr>
                    <a:xfrm>
                      <a:off x="4348440" y="5064120"/>
                      <a:ext cx="841680" cy="335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3" name="Text Box 77"/>
                    <p:cNvSpPr/>
                    <p:nvPr/>
                  </p:nvSpPr>
                  <p:spPr>
                    <a:xfrm>
                      <a:off x="4875840" y="3429000"/>
                      <a:ext cx="842040" cy="335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4" name="Text Box 78"/>
                    <p:cNvSpPr/>
                    <p:nvPr/>
                  </p:nvSpPr>
                  <p:spPr>
                    <a:xfrm>
                      <a:off x="4221720" y="4054320"/>
                      <a:ext cx="842040" cy="335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Enable bit from  5:32 Decod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405" name="Group 79"/>
                    <p:cNvGrpSpPr/>
                    <p:nvPr/>
                  </p:nvGrpSpPr>
                  <p:grpSpPr>
                    <a:xfrm>
                      <a:off x="5081760" y="2839680"/>
                      <a:ext cx="3129120" cy="3121200"/>
                      <a:chOff x="5081760" y="2839680"/>
                      <a:chExt cx="3129120" cy="3121200"/>
                    </a:xfrm>
                  </p:grpSpPr>
                  <p:sp>
                    <p:nvSpPr>
                      <p:cNvPr id="406" name="Text Box 80"/>
                      <p:cNvSpPr/>
                      <p:nvPr/>
                    </p:nvSpPr>
                    <p:spPr>
                      <a:xfrm>
                        <a:off x="7009200" y="3477960"/>
                        <a:ext cx="242640" cy="3358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4:16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07" name="Text Box 81"/>
                      <p:cNvSpPr/>
                      <p:nvPr/>
                    </p:nvSpPr>
                    <p:spPr>
                      <a:xfrm>
                        <a:off x="6052320" y="5127120"/>
                        <a:ext cx="242640" cy="3358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4:16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408" name="Group 82"/>
                      <p:cNvGrpSpPr/>
                      <p:nvPr/>
                    </p:nvGrpSpPr>
                    <p:grpSpPr>
                      <a:xfrm>
                        <a:off x="5081760" y="2839680"/>
                        <a:ext cx="3129120" cy="3121200"/>
                        <a:chOff x="5081760" y="2839680"/>
                        <a:chExt cx="3129120" cy="3121200"/>
                      </a:xfrm>
                    </p:grpSpPr>
                    <p:grpSp>
                      <p:nvGrpSpPr>
                        <p:cNvPr id="409" name="Group 83"/>
                        <p:cNvGrpSpPr/>
                        <p:nvPr/>
                      </p:nvGrpSpPr>
                      <p:grpSpPr>
                        <a:xfrm>
                          <a:off x="5081760" y="2839680"/>
                          <a:ext cx="3129120" cy="3121200"/>
                          <a:chOff x="5081760" y="2839680"/>
                          <a:chExt cx="3129120" cy="3121200"/>
                        </a:xfrm>
                      </p:grpSpPr>
                      <p:cxnSp>
                        <p:nvCxnSpPr>
                          <p:cNvPr id="410" name="AutoShape 84"/>
                          <p:cNvCxnSpPr/>
                          <p:nvPr/>
                        </p:nvCxnSpPr>
                        <p:spPr>
                          <a:xfrm flipH="1">
                            <a:off x="5190480" y="5228280"/>
                            <a:ext cx="1115280" cy="1800"/>
                          </a:xfrm>
                          <a:prstGeom prst="straightConnector1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411" name="AutoShape 85"/>
                          <p:cNvCxnSpPr/>
                          <p:nvPr/>
                        </p:nvCxnSpPr>
                        <p:spPr>
                          <a:xfrm flipV="1">
                            <a:off x="6177240" y="4223880"/>
                            <a:ext cx="1080" cy="605880"/>
                          </a:xfrm>
                          <a:prstGeom prst="straightConnector1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412" name="AutoShape 86"/>
                          <p:cNvCxnSpPr/>
                          <p:nvPr/>
                        </p:nvCxnSpPr>
                        <p:spPr>
                          <a:xfrm flipH="1">
                            <a:off x="5081760" y="4222800"/>
                            <a:ext cx="1097640" cy="1080"/>
                          </a:xfrm>
                          <a:prstGeom prst="straightConnector1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413" name="AutoShape 87"/>
                          <p:cNvCxnSpPr/>
                          <p:nvPr/>
                        </p:nvCxnSpPr>
                        <p:spPr>
                          <a:xfrm flipH="1">
                            <a:off x="6185160" y="4739760"/>
                            <a:ext cx="938520" cy="1080"/>
                          </a:xfrm>
                          <a:prstGeom prst="straightConnector1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414" name="AutoShape 88"/>
                          <p:cNvCxnSpPr/>
                          <p:nvPr/>
                        </p:nvCxnSpPr>
                        <p:spPr>
                          <a:xfrm flipH="1">
                            <a:off x="5631840" y="3572280"/>
                            <a:ext cx="1282320" cy="1080"/>
                          </a:xfrm>
                          <a:prstGeom prst="straightConnector1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415" name="AutoShape 89"/>
                          <p:cNvCxnSpPr/>
                          <p:nvPr/>
                        </p:nvCxnSpPr>
                        <p:spPr>
                          <a:xfrm flipV="1">
                            <a:off x="7121520" y="4135320"/>
                            <a:ext cx="1440" cy="604800"/>
                          </a:xfrm>
                          <a:prstGeom prst="straightConnector1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</p:cxnSp>
                      <p:grpSp>
                        <p:nvGrpSpPr>
                          <p:cNvPr id="416" name="Group 90"/>
                          <p:cNvGrpSpPr/>
                          <p:nvPr/>
                        </p:nvGrpSpPr>
                        <p:grpSpPr>
                          <a:xfrm>
                            <a:off x="5842800" y="4494960"/>
                            <a:ext cx="678600" cy="1465920"/>
                            <a:chOff x="5842800" y="4494960"/>
                            <a:chExt cx="678600" cy="1465920"/>
                          </a:xfrm>
                        </p:grpSpPr>
                        <p:sp>
                          <p:nvSpPr>
                            <p:cNvPr id="417" name="Freeform 91"/>
                            <p:cNvSpPr/>
                            <p:nvPr/>
                          </p:nvSpPr>
                          <p:spPr>
                            <a:xfrm rot="10800000">
                              <a:off x="6011640" y="4494960"/>
                              <a:ext cx="339480" cy="1465920"/>
                            </a:xfrm>
                            <a:prstGeom prst="pi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18" name="Line 92"/>
                            <p:cNvSpPr/>
                            <p:nvPr/>
                          </p:nvSpPr>
                          <p:spPr>
                            <a:xfrm flipH="1">
                              <a:off x="5842800" y="5228640"/>
                              <a:ext cx="16956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19" name="Line 93"/>
                            <p:cNvSpPr/>
                            <p:nvPr/>
                          </p:nvSpPr>
                          <p:spPr>
                            <a:xfrm>
                              <a:off x="6351480" y="4739760"/>
                              <a:ext cx="16992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20" name="Group 94"/>
                          <p:cNvGrpSpPr/>
                          <p:nvPr/>
                        </p:nvGrpSpPr>
                        <p:grpSpPr>
                          <a:xfrm>
                            <a:off x="6794280" y="2839680"/>
                            <a:ext cx="1416600" cy="1464840"/>
                            <a:chOff x="6794280" y="2839680"/>
                            <a:chExt cx="1416600" cy="1464840"/>
                          </a:xfrm>
                        </p:grpSpPr>
                        <p:sp>
                          <p:nvSpPr>
                            <p:cNvPr id="421" name="Freeform 95"/>
                            <p:cNvSpPr/>
                            <p:nvPr/>
                          </p:nvSpPr>
                          <p:spPr>
                            <a:xfrm rot="10800000">
                              <a:off x="6963840" y="2839680"/>
                              <a:ext cx="339480" cy="1464840"/>
                            </a:xfrm>
                            <a:prstGeom prst="pi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22" name="Line 96"/>
                            <p:cNvSpPr/>
                            <p:nvPr/>
                          </p:nvSpPr>
                          <p:spPr>
                            <a:xfrm flipH="1">
                              <a:off x="6794280" y="3573360"/>
                              <a:ext cx="16956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23" name="Line 97"/>
                            <p:cNvSpPr/>
                            <p:nvPr/>
                          </p:nvSpPr>
                          <p:spPr>
                            <a:xfrm>
                              <a:off x="7302600" y="3084840"/>
                              <a:ext cx="90828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24" name="Group 98"/>
                        <p:cNvGrpSpPr/>
                        <p:nvPr/>
                      </p:nvGrpSpPr>
                      <p:grpSpPr>
                        <a:xfrm>
                          <a:off x="7472880" y="2921760"/>
                          <a:ext cx="614160" cy="325080"/>
                          <a:chOff x="7472880" y="2921760"/>
                          <a:chExt cx="614160" cy="325080"/>
                        </a:xfrm>
                      </p:grpSpPr>
                      <p:grpSp>
                        <p:nvGrpSpPr>
                          <p:cNvPr id="425" name="Group 99"/>
                          <p:cNvGrpSpPr/>
                          <p:nvPr/>
                        </p:nvGrpSpPr>
                        <p:grpSpPr>
                          <a:xfrm>
                            <a:off x="7472880" y="2926440"/>
                            <a:ext cx="280800" cy="320400"/>
                            <a:chOff x="7472880" y="2926440"/>
                            <a:chExt cx="280800" cy="320400"/>
                          </a:xfrm>
                        </p:grpSpPr>
                        <p:sp>
                          <p:nvSpPr>
                            <p:cNvPr id="426" name="AutoShape 100"/>
                            <p:cNvSpPr/>
                            <p:nvPr/>
                          </p:nvSpPr>
                          <p:spPr>
                            <a:xfrm rot="5400000">
                              <a:off x="7423560" y="2975400"/>
                              <a:ext cx="320400" cy="22212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27" name="Oval 101"/>
                            <p:cNvSpPr/>
                            <p:nvPr/>
                          </p:nvSpPr>
                          <p:spPr>
                            <a:xfrm>
                              <a:off x="7687800" y="3044160"/>
                              <a:ext cx="65880" cy="8244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880" bIns="11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28" name="Group 102"/>
                          <p:cNvGrpSpPr/>
                          <p:nvPr/>
                        </p:nvGrpSpPr>
                        <p:grpSpPr>
                          <a:xfrm>
                            <a:off x="7806240" y="2921760"/>
                            <a:ext cx="280800" cy="320400"/>
                            <a:chOff x="7806240" y="2921760"/>
                            <a:chExt cx="280800" cy="320400"/>
                          </a:xfrm>
                        </p:grpSpPr>
                        <p:sp>
                          <p:nvSpPr>
                            <p:cNvPr id="429" name="AutoShape 103"/>
                            <p:cNvSpPr/>
                            <p:nvPr/>
                          </p:nvSpPr>
                          <p:spPr>
                            <a:xfrm rot="5400000">
                              <a:off x="7756920" y="2970720"/>
                              <a:ext cx="320400" cy="22212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30" name="Oval 104"/>
                            <p:cNvSpPr/>
                            <p:nvPr/>
                          </p:nvSpPr>
                          <p:spPr>
                            <a:xfrm>
                              <a:off x="8021160" y="3039480"/>
                              <a:ext cx="65880" cy="8244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880" bIns="11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31" name="Group 105"/>
                        <p:cNvGrpSpPr/>
                        <p:nvPr/>
                      </p:nvGrpSpPr>
                      <p:grpSpPr>
                        <a:xfrm>
                          <a:off x="5289120" y="4064400"/>
                          <a:ext cx="614160" cy="325440"/>
                          <a:chOff x="5289120" y="4064400"/>
                          <a:chExt cx="614160" cy="325440"/>
                        </a:xfrm>
                      </p:grpSpPr>
                      <p:grpSp>
                        <p:nvGrpSpPr>
                          <p:cNvPr id="432" name="Group 106"/>
                          <p:cNvGrpSpPr/>
                          <p:nvPr/>
                        </p:nvGrpSpPr>
                        <p:grpSpPr>
                          <a:xfrm>
                            <a:off x="5289120" y="4069080"/>
                            <a:ext cx="280800" cy="320760"/>
                            <a:chOff x="5289120" y="4069080"/>
                            <a:chExt cx="280800" cy="320760"/>
                          </a:xfrm>
                        </p:grpSpPr>
                        <p:sp>
                          <p:nvSpPr>
                            <p:cNvPr id="433" name="AutoShape 107"/>
                            <p:cNvSpPr/>
                            <p:nvPr/>
                          </p:nvSpPr>
                          <p:spPr>
                            <a:xfrm rot="5400000">
                              <a:off x="5239800" y="4118400"/>
                              <a:ext cx="320760" cy="22212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34" name="Oval 108"/>
                            <p:cNvSpPr/>
                            <p:nvPr/>
                          </p:nvSpPr>
                          <p:spPr>
                            <a:xfrm>
                              <a:off x="5504040" y="4186800"/>
                              <a:ext cx="65880" cy="8244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880" bIns="11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35" name="Group 109"/>
                          <p:cNvGrpSpPr/>
                          <p:nvPr/>
                        </p:nvGrpSpPr>
                        <p:grpSpPr>
                          <a:xfrm>
                            <a:off x="5622480" y="4064400"/>
                            <a:ext cx="280800" cy="320760"/>
                            <a:chOff x="5622480" y="4064400"/>
                            <a:chExt cx="280800" cy="320760"/>
                          </a:xfrm>
                        </p:grpSpPr>
                        <p:sp>
                          <p:nvSpPr>
                            <p:cNvPr id="436" name="AutoShape 110"/>
                            <p:cNvSpPr/>
                            <p:nvPr/>
                          </p:nvSpPr>
                          <p:spPr>
                            <a:xfrm rot="5400000">
                              <a:off x="5573160" y="4113720"/>
                              <a:ext cx="320760" cy="22212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37" name="Oval 111"/>
                            <p:cNvSpPr/>
                            <p:nvPr/>
                          </p:nvSpPr>
                          <p:spPr>
                            <a:xfrm>
                              <a:off x="5837400" y="4182120"/>
                              <a:ext cx="65880" cy="8244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880" bIns="11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38" name="Group 112"/>
                        <p:cNvGrpSpPr/>
                        <p:nvPr/>
                      </p:nvGrpSpPr>
                      <p:grpSpPr>
                        <a:xfrm>
                          <a:off x="6460920" y="4575600"/>
                          <a:ext cx="614160" cy="325080"/>
                          <a:chOff x="6460920" y="4575600"/>
                          <a:chExt cx="614160" cy="325080"/>
                        </a:xfrm>
                      </p:grpSpPr>
                      <p:grpSp>
                        <p:nvGrpSpPr>
                          <p:cNvPr id="439" name="Group 113"/>
                          <p:cNvGrpSpPr/>
                          <p:nvPr/>
                        </p:nvGrpSpPr>
                        <p:grpSpPr>
                          <a:xfrm>
                            <a:off x="6460920" y="4580280"/>
                            <a:ext cx="280800" cy="320400"/>
                            <a:chOff x="6460920" y="4580280"/>
                            <a:chExt cx="280800" cy="320400"/>
                          </a:xfrm>
                        </p:grpSpPr>
                        <p:sp>
                          <p:nvSpPr>
                            <p:cNvPr id="440" name="AutoShape 114"/>
                            <p:cNvSpPr/>
                            <p:nvPr/>
                          </p:nvSpPr>
                          <p:spPr>
                            <a:xfrm rot="5400000">
                              <a:off x="6411600" y="4629240"/>
                              <a:ext cx="320400" cy="22212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41" name="Oval 115"/>
                            <p:cNvSpPr/>
                            <p:nvPr/>
                          </p:nvSpPr>
                          <p:spPr>
                            <a:xfrm>
                              <a:off x="6675840" y="4698000"/>
                              <a:ext cx="65880" cy="8244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880" bIns="11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42" name="Group 116"/>
                          <p:cNvGrpSpPr/>
                          <p:nvPr/>
                        </p:nvGrpSpPr>
                        <p:grpSpPr>
                          <a:xfrm>
                            <a:off x="6794280" y="4575600"/>
                            <a:ext cx="280800" cy="320400"/>
                            <a:chOff x="6794280" y="4575600"/>
                            <a:chExt cx="280800" cy="320400"/>
                          </a:xfrm>
                        </p:grpSpPr>
                        <p:sp>
                          <p:nvSpPr>
                            <p:cNvPr id="443" name="AutoShape 117"/>
                            <p:cNvSpPr/>
                            <p:nvPr/>
                          </p:nvSpPr>
                          <p:spPr>
                            <a:xfrm rot="5400000">
                              <a:off x="6744960" y="4624560"/>
                              <a:ext cx="320400" cy="22212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44" name="Oval 118"/>
                            <p:cNvSpPr/>
                            <p:nvPr/>
                          </p:nvSpPr>
                          <p:spPr>
                            <a:xfrm>
                              <a:off x="7009200" y="4693320"/>
                              <a:ext cx="65880" cy="8244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880" bIns="11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45" name="Group 119"/>
                      <p:cNvGrpSpPr/>
                      <p:nvPr/>
                    </p:nvGrpSpPr>
                    <p:grpSpPr>
                      <a:xfrm>
                        <a:off x="5283720" y="4417920"/>
                        <a:ext cx="564840" cy="225000"/>
                        <a:chOff x="5283720" y="4417920"/>
                        <a:chExt cx="564840" cy="225000"/>
                      </a:xfrm>
                    </p:grpSpPr>
                    <p:sp>
                      <p:nvSpPr>
                        <p:cNvPr id="446" name="Text Box 120"/>
                        <p:cNvSpPr/>
                        <p:nvPr/>
                      </p:nvSpPr>
                      <p:spPr>
                        <a:xfrm>
                          <a:off x="5283720" y="4424760"/>
                          <a:ext cx="242640" cy="2181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28440">
                          <a:solidFill>
                            <a:srgbClr val="ffffff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500" spc="-1" strike="noStrike">
                              <a:solidFill>
                                <a:srgbClr val="000000"/>
                              </a:solidFill>
                              <a:latin typeface="Calibri"/>
                              <a:ea typeface="SimSun"/>
                            </a:rPr>
                            <a:t>1</a:t>
                          </a:r>
                          <a:endPara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447" name="Text Box 121"/>
                        <p:cNvSpPr/>
                        <p:nvPr/>
                      </p:nvSpPr>
                      <p:spPr>
                        <a:xfrm>
                          <a:off x="5605920" y="4417920"/>
                          <a:ext cx="242640" cy="217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28440">
                          <a:solidFill>
                            <a:srgbClr val="ffffff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500" spc="-1" strike="noStrike">
                              <a:solidFill>
                                <a:srgbClr val="000000"/>
                              </a:solidFill>
                              <a:latin typeface="Calibri"/>
                              <a:ea typeface="SimSun"/>
                            </a:rPr>
                            <a:t>4</a:t>
                          </a:r>
                          <a:endPara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448" name="Group 122"/>
                      <p:cNvGrpSpPr/>
                      <p:nvPr/>
                    </p:nvGrpSpPr>
                    <p:grpSpPr>
                      <a:xfrm>
                        <a:off x="7469640" y="3270240"/>
                        <a:ext cx="564840" cy="224640"/>
                        <a:chOff x="7469640" y="3270240"/>
                        <a:chExt cx="564840" cy="224640"/>
                      </a:xfrm>
                    </p:grpSpPr>
                    <p:sp>
                      <p:nvSpPr>
                        <p:cNvPr id="449" name="Text Box 123"/>
                        <p:cNvSpPr/>
                        <p:nvPr/>
                      </p:nvSpPr>
                      <p:spPr>
                        <a:xfrm>
                          <a:off x="7469640" y="3277080"/>
                          <a:ext cx="242640" cy="217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28440">
                          <a:solidFill>
                            <a:srgbClr val="ffffff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500" spc="-1" strike="noStrike">
                              <a:solidFill>
                                <a:srgbClr val="000000"/>
                              </a:solidFill>
                              <a:latin typeface="Calibri"/>
                              <a:ea typeface="SimSun"/>
                            </a:rPr>
                            <a:t>1</a:t>
                          </a:r>
                          <a:endPara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450" name="Text Box 124"/>
                        <p:cNvSpPr/>
                        <p:nvPr/>
                      </p:nvSpPr>
                      <p:spPr>
                        <a:xfrm>
                          <a:off x="7791840" y="3270240"/>
                          <a:ext cx="242640" cy="2181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28440">
                          <a:solidFill>
                            <a:srgbClr val="ffffff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500" spc="-1" strike="noStrike">
                              <a:solidFill>
                                <a:srgbClr val="000000"/>
                              </a:solidFill>
                              <a:latin typeface="Calibri"/>
                              <a:ea typeface="SimSun"/>
                            </a:rPr>
                            <a:t>4</a:t>
                          </a:r>
                          <a:endPara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sp>
          <p:nvSpPr>
            <p:cNvPr id="451" name="Text Box 125"/>
            <p:cNvSpPr/>
            <p:nvPr/>
          </p:nvSpPr>
          <p:spPr>
            <a:xfrm>
              <a:off x="7149960" y="4419720"/>
              <a:ext cx="837360" cy="20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Enable bit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Text Box 126"/>
            <p:cNvSpPr/>
            <p:nvPr/>
          </p:nvSpPr>
          <p:spPr>
            <a:xfrm>
              <a:off x="6217200" y="4224960"/>
              <a:ext cx="837360" cy="20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Enable bit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Text Box 127"/>
            <p:cNvSpPr/>
            <p:nvPr/>
          </p:nvSpPr>
          <p:spPr>
            <a:xfrm>
              <a:off x="7002360" y="3458520"/>
              <a:ext cx="26136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4:1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Text Box 128"/>
            <p:cNvSpPr/>
            <p:nvPr/>
          </p:nvSpPr>
          <p:spPr>
            <a:xfrm>
              <a:off x="6052680" y="5127840"/>
              <a:ext cx="261360" cy="20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4:16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ck Architecture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6" name="Group 2"/>
          <p:cNvGrpSpPr/>
          <p:nvPr/>
        </p:nvGrpSpPr>
        <p:grpSpPr>
          <a:xfrm>
            <a:off x="1599840" y="1295280"/>
            <a:ext cx="5962680" cy="3962520"/>
            <a:chOff x="1599840" y="1295280"/>
            <a:chExt cx="5962680" cy="3962520"/>
          </a:xfrm>
        </p:grpSpPr>
        <p:sp>
          <p:nvSpPr>
            <p:cNvPr id="457" name="Rectangle 3"/>
            <p:cNvSpPr/>
            <p:nvPr/>
          </p:nvSpPr>
          <p:spPr>
            <a:xfrm flipH="1">
              <a:off x="1599480" y="1295280"/>
              <a:ext cx="596268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8" name="Group 4"/>
            <p:cNvGrpSpPr/>
            <p:nvPr/>
          </p:nvGrpSpPr>
          <p:grpSpPr>
            <a:xfrm>
              <a:off x="1644840" y="1328400"/>
              <a:ext cx="4962600" cy="3806280"/>
              <a:chOff x="1644840" y="1328400"/>
              <a:chExt cx="4962600" cy="3806280"/>
            </a:xfrm>
          </p:grpSpPr>
          <p:grpSp>
            <p:nvGrpSpPr>
              <p:cNvPr id="459" name="Group 5"/>
              <p:cNvGrpSpPr/>
              <p:nvPr/>
            </p:nvGrpSpPr>
            <p:grpSpPr>
              <a:xfrm>
                <a:off x="3837600" y="1432800"/>
                <a:ext cx="1989000" cy="3696480"/>
                <a:chOff x="3837600" y="1432800"/>
                <a:chExt cx="1989000" cy="3696480"/>
              </a:xfrm>
            </p:grpSpPr>
            <p:cxnSp>
              <p:nvCxnSpPr>
                <p:cNvPr id="460" name="AutoShape 6"/>
                <p:cNvCxnSpPr/>
                <p:nvPr/>
              </p:nvCxnSpPr>
              <p:spPr>
                <a:xfrm>
                  <a:off x="3837600" y="1766880"/>
                  <a:ext cx="1570680" cy="1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grpSp>
              <p:nvGrpSpPr>
                <p:cNvPr id="461" name="Group 7"/>
                <p:cNvGrpSpPr/>
                <p:nvPr/>
              </p:nvGrpSpPr>
              <p:grpSpPr>
                <a:xfrm>
                  <a:off x="4989240" y="4723560"/>
                  <a:ext cx="832320" cy="401760"/>
                  <a:chOff x="4989240" y="4723560"/>
                  <a:chExt cx="832320" cy="401760"/>
                </a:xfrm>
              </p:grpSpPr>
              <p:sp>
                <p:nvSpPr>
                  <p:cNvPr id="462" name="Freeform 8"/>
                  <p:cNvSpPr/>
                  <p:nvPr/>
                </p:nvSpPr>
                <p:spPr>
                  <a:xfrm flipH="1" rot="16200000">
                    <a:off x="5304960" y="4608720"/>
                    <a:ext cx="200520" cy="8323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63" name="Line 9"/>
                  <p:cNvSpPr/>
                  <p:nvPr/>
                </p:nvSpPr>
                <p:spPr>
                  <a:xfrm>
                    <a:off x="5223960" y="4850640"/>
                    <a:ext cx="361800" cy="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64" name="Line 10"/>
                  <p:cNvSpPr/>
                  <p:nvPr/>
                </p:nvSpPr>
                <p:spPr>
                  <a:xfrm>
                    <a:off x="5406120" y="4723560"/>
                    <a:ext cx="720" cy="127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cxnSp>
              <p:nvCxnSpPr>
                <p:cNvPr id="465" name="AutoShape 11"/>
                <p:cNvCxnSpPr/>
                <p:nvPr/>
              </p:nvCxnSpPr>
              <p:spPr>
                <a:xfrm flipH="1" flipV="1">
                  <a:off x="4993920" y="2010600"/>
                  <a:ext cx="9360" cy="3106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66" name="AutoShape 12"/>
                <p:cNvCxnSpPr/>
                <p:nvPr/>
              </p:nvCxnSpPr>
              <p:spPr>
                <a:xfrm flipV="1">
                  <a:off x="5407560" y="1761840"/>
                  <a:ext cx="5400" cy="29617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grpSp>
              <p:nvGrpSpPr>
                <p:cNvPr id="467" name="Group 13"/>
                <p:cNvGrpSpPr/>
                <p:nvPr/>
              </p:nvGrpSpPr>
              <p:grpSpPr>
                <a:xfrm>
                  <a:off x="4695480" y="1872360"/>
                  <a:ext cx="708840" cy="1444680"/>
                  <a:chOff x="4695480" y="1872360"/>
                  <a:chExt cx="708840" cy="1444680"/>
                </a:xfrm>
              </p:grpSpPr>
              <p:grpSp>
                <p:nvGrpSpPr>
                  <p:cNvPr id="468" name="Group 14"/>
                  <p:cNvGrpSpPr/>
                  <p:nvPr/>
                </p:nvGrpSpPr>
                <p:grpSpPr>
                  <a:xfrm>
                    <a:off x="4706640" y="1872360"/>
                    <a:ext cx="695160" cy="138960"/>
                    <a:chOff x="4706640" y="1872360"/>
                    <a:chExt cx="695160" cy="138960"/>
                  </a:xfrm>
                </p:grpSpPr>
                <p:grpSp>
                  <p:nvGrpSpPr>
                    <p:cNvPr id="469" name="Group 15"/>
                    <p:cNvGrpSpPr/>
                    <p:nvPr/>
                  </p:nvGrpSpPr>
                  <p:grpSpPr>
                    <a:xfrm>
                      <a:off x="4706640" y="1872720"/>
                      <a:ext cx="286920" cy="138600"/>
                      <a:chOff x="4706640" y="1872720"/>
                      <a:chExt cx="286920" cy="138600"/>
                    </a:xfrm>
                  </p:grpSpPr>
                  <p:sp>
                    <p:nvSpPr>
                      <p:cNvPr id="470" name="Freeform 16"/>
                      <p:cNvSpPr/>
                      <p:nvPr/>
                    </p:nvSpPr>
                    <p:spPr>
                      <a:xfrm flipH="1" rot="16200000">
                        <a:off x="4815000" y="183312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71" name="Line 17"/>
                      <p:cNvSpPr/>
                      <p:nvPr/>
                    </p:nvSpPr>
                    <p:spPr>
                      <a:xfrm>
                        <a:off x="4787280" y="191664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72" name="Line 18"/>
                      <p:cNvSpPr/>
                      <p:nvPr/>
                    </p:nvSpPr>
                    <p:spPr>
                      <a:xfrm>
                        <a:off x="4850280" y="187272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473" name="AutoShape 19"/>
                    <p:cNvCxnSpPr/>
                    <p:nvPr/>
                  </p:nvCxnSpPr>
                  <p:spPr>
                    <a:xfrm>
                      <a:off x="4852080" y="187236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474" name="Group 20"/>
                  <p:cNvGrpSpPr/>
                  <p:nvPr/>
                </p:nvGrpSpPr>
                <p:grpSpPr>
                  <a:xfrm>
                    <a:off x="4700520" y="2055600"/>
                    <a:ext cx="695160" cy="138960"/>
                    <a:chOff x="4700520" y="2055600"/>
                    <a:chExt cx="695160" cy="138960"/>
                  </a:xfrm>
                </p:grpSpPr>
                <p:grpSp>
                  <p:nvGrpSpPr>
                    <p:cNvPr id="475" name="Group 21"/>
                    <p:cNvGrpSpPr/>
                    <p:nvPr/>
                  </p:nvGrpSpPr>
                  <p:grpSpPr>
                    <a:xfrm>
                      <a:off x="4700520" y="2055960"/>
                      <a:ext cx="286920" cy="138600"/>
                      <a:chOff x="4700520" y="2055960"/>
                      <a:chExt cx="286920" cy="138600"/>
                    </a:xfrm>
                  </p:grpSpPr>
                  <p:sp>
                    <p:nvSpPr>
                      <p:cNvPr id="476" name="Freeform 22"/>
                      <p:cNvSpPr/>
                      <p:nvPr/>
                    </p:nvSpPr>
                    <p:spPr>
                      <a:xfrm flipH="1" rot="16200000">
                        <a:off x="4808880" y="201636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77" name="Line 23"/>
                      <p:cNvSpPr/>
                      <p:nvPr/>
                    </p:nvSpPr>
                    <p:spPr>
                      <a:xfrm>
                        <a:off x="4781160" y="209988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78" name="Line 24"/>
                      <p:cNvSpPr/>
                      <p:nvPr/>
                    </p:nvSpPr>
                    <p:spPr>
                      <a:xfrm>
                        <a:off x="4844160" y="205596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479" name="AutoShape 25"/>
                    <p:cNvCxnSpPr/>
                    <p:nvPr/>
                  </p:nvCxnSpPr>
                  <p:spPr>
                    <a:xfrm>
                      <a:off x="4845960" y="205560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480" name="Group 26"/>
                  <p:cNvGrpSpPr/>
                  <p:nvPr/>
                </p:nvGrpSpPr>
                <p:grpSpPr>
                  <a:xfrm>
                    <a:off x="4701600" y="2243520"/>
                    <a:ext cx="695160" cy="138960"/>
                    <a:chOff x="4701600" y="2243520"/>
                    <a:chExt cx="695160" cy="138960"/>
                  </a:xfrm>
                </p:grpSpPr>
                <p:grpSp>
                  <p:nvGrpSpPr>
                    <p:cNvPr id="481" name="Group 27"/>
                    <p:cNvGrpSpPr/>
                    <p:nvPr/>
                  </p:nvGrpSpPr>
                  <p:grpSpPr>
                    <a:xfrm>
                      <a:off x="4701600" y="2243880"/>
                      <a:ext cx="286920" cy="138600"/>
                      <a:chOff x="4701600" y="2243880"/>
                      <a:chExt cx="286920" cy="138600"/>
                    </a:xfrm>
                  </p:grpSpPr>
                  <p:sp>
                    <p:nvSpPr>
                      <p:cNvPr id="482" name="Freeform 28"/>
                      <p:cNvSpPr/>
                      <p:nvPr/>
                    </p:nvSpPr>
                    <p:spPr>
                      <a:xfrm flipH="1" rot="16200000">
                        <a:off x="4809960" y="220428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83" name="Line 29"/>
                      <p:cNvSpPr/>
                      <p:nvPr/>
                    </p:nvSpPr>
                    <p:spPr>
                      <a:xfrm>
                        <a:off x="4782240" y="228780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84" name="Line 30"/>
                      <p:cNvSpPr/>
                      <p:nvPr/>
                    </p:nvSpPr>
                    <p:spPr>
                      <a:xfrm>
                        <a:off x="4845240" y="224388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485" name="AutoShape 31"/>
                    <p:cNvCxnSpPr/>
                    <p:nvPr/>
                  </p:nvCxnSpPr>
                  <p:spPr>
                    <a:xfrm>
                      <a:off x="4847040" y="224352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486" name="Group 32"/>
                  <p:cNvGrpSpPr/>
                  <p:nvPr/>
                </p:nvGrpSpPr>
                <p:grpSpPr>
                  <a:xfrm>
                    <a:off x="4695480" y="2426760"/>
                    <a:ext cx="695160" cy="138600"/>
                    <a:chOff x="4695480" y="2426760"/>
                    <a:chExt cx="695160" cy="138600"/>
                  </a:xfrm>
                </p:grpSpPr>
                <p:grpSp>
                  <p:nvGrpSpPr>
                    <p:cNvPr id="487" name="Group 33"/>
                    <p:cNvGrpSpPr/>
                    <p:nvPr/>
                  </p:nvGrpSpPr>
                  <p:grpSpPr>
                    <a:xfrm>
                      <a:off x="4695480" y="2427120"/>
                      <a:ext cx="286920" cy="138240"/>
                      <a:chOff x="4695480" y="2427120"/>
                      <a:chExt cx="286920" cy="138240"/>
                    </a:xfrm>
                  </p:grpSpPr>
                  <p:sp>
                    <p:nvSpPr>
                      <p:cNvPr id="488" name="Freeform 34"/>
                      <p:cNvSpPr/>
                      <p:nvPr/>
                    </p:nvSpPr>
                    <p:spPr>
                      <a:xfrm flipH="1" rot="16200000">
                        <a:off x="4803840" y="238716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89" name="Line 35"/>
                      <p:cNvSpPr/>
                      <p:nvPr/>
                    </p:nvSpPr>
                    <p:spPr>
                      <a:xfrm>
                        <a:off x="4776120" y="247068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90" name="Line 36"/>
                      <p:cNvSpPr/>
                      <p:nvPr/>
                    </p:nvSpPr>
                    <p:spPr>
                      <a:xfrm>
                        <a:off x="4839120" y="2427120"/>
                        <a:ext cx="0" cy="43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491" name="AutoShape 37"/>
                    <p:cNvCxnSpPr/>
                    <p:nvPr/>
                  </p:nvCxnSpPr>
                  <p:spPr>
                    <a:xfrm>
                      <a:off x="4840920" y="242676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492" name="Group 38"/>
                  <p:cNvGrpSpPr/>
                  <p:nvPr/>
                </p:nvGrpSpPr>
                <p:grpSpPr>
                  <a:xfrm>
                    <a:off x="4709160" y="2623680"/>
                    <a:ext cx="695160" cy="138960"/>
                    <a:chOff x="4709160" y="2623680"/>
                    <a:chExt cx="695160" cy="138960"/>
                  </a:xfrm>
                </p:grpSpPr>
                <p:grpSp>
                  <p:nvGrpSpPr>
                    <p:cNvPr id="493" name="Group 39"/>
                    <p:cNvGrpSpPr/>
                    <p:nvPr/>
                  </p:nvGrpSpPr>
                  <p:grpSpPr>
                    <a:xfrm>
                      <a:off x="4709160" y="2624040"/>
                      <a:ext cx="286920" cy="138600"/>
                      <a:chOff x="4709160" y="2624040"/>
                      <a:chExt cx="286920" cy="138600"/>
                    </a:xfrm>
                  </p:grpSpPr>
                  <p:sp>
                    <p:nvSpPr>
                      <p:cNvPr id="494" name="Freeform 40"/>
                      <p:cNvSpPr/>
                      <p:nvPr/>
                    </p:nvSpPr>
                    <p:spPr>
                      <a:xfrm flipH="1" rot="16200000">
                        <a:off x="4817520" y="258444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95" name="Line 41"/>
                      <p:cNvSpPr/>
                      <p:nvPr/>
                    </p:nvSpPr>
                    <p:spPr>
                      <a:xfrm>
                        <a:off x="4789800" y="266796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96" name="Line 42"/>
                      <p:cNvSpPr/>
                      <p:nvPr/>
                    </p:nvSpPr>
                    <p:spPr>
                      <a:xfrm>
                        <a:off x="4852800" y="262404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497" name="AutoShape 43"/>
                    <p:cNvCxnSpPr/>
                    <p:nvPr/>
                  </p:nvCxnSpPr>
                  <p:spPr>
                    <a:xfrm>
                      <a:off x="4854600" y="262368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498" name="Group 44"/>
                  <p:cNvGrpSpPr/>
                  <p:nvPr/>
                </p:nvGrpSpPr>
                <p:grpSpPr>
                  <a:xfrm>
                    <a:off x="4703040" y="2806560"/>
                    <a:ext cx="695160" cy="138960"/>
                    <a:chOff x="4703040" y="2806560"/>
                    <a:chExt cx="695160" cy="138960"/>
                  </a:xfrm>
                </p:grpSpPr>
                <p:grpSp>
                  <p:nvGrpSpPr>
                    <p:cNvPr id="499" name="Group 45"/>
                    <p:cNvGrpSpPr/>
                    <p:nvPr/>
                  </p:nvGrpSpPr>
                  <p:grpSpPr>
                    <a:xfrm>
                      <a:off x="4703040" y="2806920"/>
                      <a:ext cx="286920" cy="138600"/>
                      <a:chOff x="4703040" y="2806920"/>
                      <a:chExt cx="286920" cy="138600"/>
                    </a:xfrm>
                  </p:grpSpPr>
                  <p:sp>
                    <p:nvSpPr>
                      <p:cNvPr id="500" name="Freeform 46"/>
                      <p:cNvSpPr/>
                      <p:nvPr/>
                    </p:nvSpPr>
                    <p:spPr>
                      <a:xfrm flipH="1" rot="16200000">
                        <a:off x="4811400" y="276732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01" name="Line 47"/>
                      <p:cNvSpPr/>
                      <p:nvPr/>
                    </p:nvSpPr>
                    <p:spPr>
                      <a:xfrm>
                        <a:off x="4783680" y="285084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02" name="Line 48"/>
                      <p:cNvSpPr/>
                      <p:nvPr/>
                    </p:nvSpPr>
                    <p:spPr>
                      <a:xfrm>
                        <a:off x="4846680" y="280692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03" name="AutoShape 49"/>
                    <p:cNvCxnSpPr/>
                    <p:nvPr/>
                  </p:nvCxnSpPr>
                  <p:spPr>
                    <a:xfrm>
                      <a:off x="4848480" y="280656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04" name="Group 50"/>
                  <p:cNvGrpSpPr/>
                  <p:nvPr/>
                </p:nvGrpSpPr>
                <p:grpSpPr>
                  <a:xfrm>
                    <a:off x="4704120" y="2994840"/>
                    <a:ext cx="695160" cy="138600"/>
                    <a:chOff x="4704120" y="2994840"/>
                    <a:chExt cx="695160" cy="138600"/>
                  </a:xfrm>
                </p:grpSpPr>
                <p:grpSp>
                  <p:nvGrpSpPr>
                    <p:cNvPr id="505" name="Group 51"/>
                    <p:cNvGrpSpPr/>
                    <p:nvPr/>
                  </p:nvGrpSpPr>
                  <p:grpSpPr>
                    <a:xfrm>
                      <a:off x="4704120" y="2995200"/>
                      <a:ext cx="286920" cy="138240"/>
                      <a:chOff x="4704120" y="2995200"/>
                      <a:chExt cx="286920" cy="138240"/>
                    </a:xfrm>
                  </p:grpSpPr>
                  <p:sp>
                    <p:nvSpPr>
                      <p:cNvPr id="506" name="Freeform 52"/>
                      <p:cNvSpPr/>
                      <p:nvPr/>
                    </p:nvSpPr>
                    <p:spPr>
                      <a:xfrm flipH="1" rot="16200000">
                        <a:off x="4812480" y="295524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07" name="Line 53"/>
                      <p:cNvSpPr/>
                      <p:nvPr/>
                    </p:nvSpPr>
                    <p:spPr>
                      <a:xfrm>
                        <a:off x="4784760" y="303876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08" name="Line 54"/>
                      <p:cNvSpPr/>
                      <p:nvPr/>
                    </p:nvSpPr>
                    <p:spPr>
                      <a:xfrm>
                        <a:off x="4847760" y="2995200"/>
                        <a:ext cx="0" cy="43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09" name="AutoShape 55"/>
                    <p:cNvCxnSpPr/>
                    <p:nvPr/>
                  </p:nvCxnSpPr>
                  <p:spPr>
                    <a:xfrm>
                      <a:off x="4849560" y="299484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10" name="Group 56"/>
                  <p:cNvGrpSpPr/>
                  <p:nvPr/>
                </p:nvGrpSpPr>
                <p:grpSpPr>
                  <a:xfrm>
                    <a:off x="4698000" y="3178080"/>
                    <a:ext cx="695160" cy="138960"/>
                    <a:chOff x="4698000" y="3178080"/>
                    <a:chExt cx="695160" cy="138960"/>
                  </a:xfrm>
                </p:grpSpPr>
                <p:grpSp>
                  <p:nvGrpSpPr>
                    <p:cNvPr id="511" name="Group 57"/>
                    <p:cNvGrpSpPr/>
                    <p:nvPr/>
                  </p:nvGrpSpPr>
                  <p:grpSpPr>
                    <a:xfrm>
                      <a:off x="4698000" y="3178440"/>
                      <a:ext cx="286920" cy="138600"/>
                      <a:chOff x="4698000" y="3178440"/>
                      <a:chExt cx="286920" cy="138600"/>
                    </a:xfrm>
                  </p:grpSpPr>
                  <p:sp>
                    <p:nvSpPr>
                      <p:cNvPr id="512" name="Freeform 58"/>
                      <p:cNvSpPr/>
                      <p:nvPr/>
                    </p:nvSpPr>
                    <p:spPr>
                      <a:xfrm flipH="1" rot="16200000">
                        <a:off x="4806360" y="313884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13" name="Line 59"/>
                      <p:cNvSpPr/>
                      <p:nvPr/>
                    </p:nvSpPr>
                    <p:spPr>
                      <a:xfrm>
                        <a:off x="4778640" y="322236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14" name="Line 60"/>
                      <p:cNvSpPr/>
                      <p:nvPr/>
                    </p:nvSpPr>
                    <p:spPr>
                      <a:xfrm>
                        <a:off x="4841640" y="317844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15" name="AutoShape 61"/>
                    <p:cNvCxnSpPr/>
                    <p:nvPr/>
                  </p:nvCxnSpPr>
                  <p:spPr>
                    <a:xfrm>
                      <a:off x="4843440" y="317808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grpSp>
              <p:nvGrpSpPr>
                <p:cNvPr id="516" name="Group 62"/>
                <p:cNvGrpSpPr/>
                <p:nvPr/>
              </p:nvGrpSpPr>
              <p:grpSpPr>
                <a:xfrm>
                  <a:off x="4699080" y="3380040"/>
                  <a:ext cx="708840" cy="1444680"/>
                  <a:chOff x="4699080" y="3380040"/>
                  <a:chExt cx="708840" cy="1444680"/>
                </a:xfrm>
              </p:grpSpPr>
              <p:grpSp>
                <p:nvGrpSpPr>
                  <p:cNvPr id="517" name="Group 63"/>
                  <p:cNvGrpSpPr/>
                  <p:nvPr/>
                </p:nvGrpSpPr>
                <p:grpSpPr>
                  <a:xfrm>
                    <a:off x="4710240" y="3380040"/>
                    <a:ext cx="695160" cy="138960"/>
                    <a:chOff x="4710240" y="3380040"/>
                    <a:chExt cx="695160" cy="138960"/>
                  </a:xfrm>
                </p:grpSpPr>
                <p:grpSp>
                  <p:nvGrpSpPr>
                    <p:cNvPr id="518" name="Group 64"/>
                    <p:cNvGrpSpPr/>
                    <p:nvPr/>
                  </p:nvGrpSpPr>
                  <p:grpSpPr>
                    <a:xfrm>
                      <a:off x="4710240" y="3380400"/>
                      <a:ext cx="286920" cy="138600"/>
                      <a:chOff x="4710240" y="3380400"/>
                      <a:chExt cx="286920" cy="138600"/>
                    </a:xfrm>
                  </p:grpSpPr>
                  <p:sp>
                    <p:nvSpPr>
                      <p:cNvPr id="519" name="Freeform 65"/>
                      <p:cNvSpPr/>
                      <p:nvPr/>
                    </p:nvSpPr>
                    <p:spPr>
                      <a:xfrm flipH="1" rot="16200000">
                        <a:off x="4818600" y="334080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20" name="Line 66"/>
                      <p:cNvSpPr/>
                      <p:nvPr/>
                    </p:nvSpPr>
                    <p:spPr>
                      <a:xfrm>
                        <a:off x="4790880" y="342432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21" name="Line 67"/>
                      <p:cNvSpPr/>
                      <p:nvPr/>
                    </p:nvSpPr>
                    <p:spPr>
                      <a:xfrm>
                        <a:off x="4853880" y="338040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22" name="AutoShape 68"/>
                    <p:cNvCxnSpPr/>
                    <p:nvPr/>
                  </p:nvCxnSpPr>
                  <p:spPr>
                    <a:xfrm>
                      <a:off x="4855680" y="338004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23" name="Group 69"/>
                  <p:cNvGrpSpPr/>
                  <p:nvPr/>
                </p:nvGrpSpPr>
                <p:grpSpPr>
                  <a:xfrm>
                    <a:off x="4704120" y="3563280"/>
                    <a:ext cx="695160" cy="138960"/>
                    <a:chOff x="4704120" y="3563280"/>
                    <a:chExt cx="695160" cy="138960"/>
                  </a:xfrm>
                </p:grpSpPr>
                <p:grpSp>
                  <p:nvGrpSpPr>
                    <p:cNvPr id="524" name="Group 70"/>
                    <p:cNvGrpSpPr/>
                    <p:nvPr/>
                  </p:nvGrpSpPr>
                  <p:grpSpPr>
                    <a:xfrm>
                      <a:off x="4704120" y="3563640"/>
                      <a:ext cx="286920" cy="138600"/>
                      <a:chOff x="4704120" y="3563640"/>
                      <a:chExt cx="286920" cy="138600"/>
                    </a:xfrm>
                  </p:grpSpPr>
                  <p:sp>
                    <p:nvSpPr>
                      <p:cNvPr id="525" name="Freeform 71"/>
                      <p:cNvSpPr/>
                      <p:nvPr/>
                    </p:nvSpPr>
                    <p:spPr>
                      <a:xfrm flipH="1" rot="16200000">
                        <a:off x="4812480" y="352404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26" name="Line 72"/>
                      <p:cNvSpPr/>
                      <p:nvPr/>
                    </p:nvSpPr>
                    <p:spPr>
                      <a:xfrm>
                        <a:off x="4784760" y="360756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27" name="Line 73"/>
                      <p:cNvSpPr/>
                      <p:nvPr/>
                    </p:nvSpPr>
                    <p:spPr>
                      <a:xfrm>
                        <a:off x="4847760" y="356364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28" name="AutoShape 74"/>
                    <p:cNvCxnSpPr/>
                    <p:nvPr/>
                  </p:nvCxnSpPr>
                  <p:spPr>
                    <a:xfrm>
                      <a:off x="4849560" y="356328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29" name="Group 75"/>
                  <p:cNvGrpSpPr/>
                  <p:nvPr/>
                </p:nvGrpSpPr>
                <p:grpSpPr>
                  <a:xfrm>
                    <a:off x="4705200" y="3751200"/>
                    <a:ext cx="695160" cy="138960"/>
                    <a:chOff x="4705200" y="3751200"/>
                    <a:chExt cx="695160" cy="138960"/>
                  </a:xfrm>
                </p:grpSpPr>
                <p:grpSp>
                  <p:nvGrpSpPr>
                    <p:cNvPr id="530" name="Group 76"/>
                    <p:cNvGrpSpPr/>
                    <p:nvPr/>
                  </p:nvGrpSpPr>
                  <p:grpSpPr>
                    <a:xfrm>
                      <a:off x="4705200" y="3751560"/>
                      <a:ext cx="286920" cy="138600"/>
                      <a:chOff x="4705200" y="3751560"/>
                      <a:chExt cx="286920" cy="138600"/>
                    </a:xfrm>
                  </p:grpSpPr>
                  <p:sp>
                    <p:nvSpPr>
                      <p:cNvPr id="531" name="Freeform 77"/>
                      <p:cNvSpPr/>
                      <p:nvPr/>
                    </p:nvSpPr>
                    <p:spPr>
                      <a:xfrm flipH="1" rot="16200000">
                        <a:off x="4813560" y="371196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32" name="Line 78"/>
                      <p:cNvSpPr/>
                      <p:nvPr/>
                    </p:nvSpPr>
                    <p:spPr>
                      <a:xfrm>
                        <a:off x="4785840" y="379548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33" name="Line 79"/>
                      <p:cNvSpPr/>
                      <p:nvPr/>
                    </p:nvSpPr>
                    <p:spPr>
                      <a:xfrm>
                        <a:off x="4848840" y="375156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34" name="AutoShape 80"/>
                    <p:cNvCxnSpPr/>
                    <p:nvPr/>
                  </p:nvCxnSpPr>
                  <p:spPr>
                    <a:xfrm>
                      <a:off x="4850640" y="375120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35" name="Group 81"/>
                  <p:cNvGrpSpPr/>
                  <p:nvPr/>
                </p:nvGrpSpPr>
                <p:grpSpPr>
                  <a:xfrm>
                    <a:off x="4699080" y="3934440"/>
                    <a:ext cx="695160" cy="138600"/>
                    <a:chOff x="4699080" y="3934440"/>
                    <a:chExt cx="695160" cy="138600"/>
                  </a:xfrm>
                </p:grpSpPr>
                <p:grpSp>
                  <p:nvGrpSpPr>
                    <p:cNvPr id="536" name="Group 82"/>
                    <p:cNvGrpSpPr/>
                    <p:nvPr/>
                  </p:nvGrpSpPr>
                  <p:grpSpPr>
                    <a:xfrm>
                      <a:off x="4699080" y="3934800"/>
                      <a:ext cx="286920" cy="138240"/>
                      <a:chOff x="4699080" y="3934800"/>
                      <a:chExt cx="286920" cy="138240"/>
                    </a:xfrm>
                  </p:grpSpPr>
                  <p:sp>
                    <p:nvSpPr>
                      <p:cNvPr id="537" name="Freeform 83"/>
                      <p:cNvSpPr/>
                      <p:nvPr/>
                    </p:nvSpPr>
                    <p:spPr>
                      <a:xfrm flipH="1" rot="16200000">
                        <a:off x="4807440" y="389484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38" name="Line 84"/>
                      <p:cNvSpPr/>
                      <p:nvPr/>
                    </p:nvSpPr>
                    <p:spPr>
                      <a:xfrm>
                        <a:off x="4779720" y="397836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39" name="Line 85"/>
                      <p:cNvSpPr/>
                      <p:nvPr/>
                    </p:nvSpPr>
                    <p:spPr>
                      <a:xfrm>
                        <a:off x="4842720" y="3934800"/>
                        <a:ext cx="0" cy="43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40" name="AutoShape 86"/>
                    <p:cNvCxnSpPr/>
                    <p:nvPr/>
                  </p:nvCxnSpPr>
                  <p:spPr>
                    <a:xfrm>
                      <a:off x="4844520" y="393444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41" name="Group 87"/>
                  <p:cNvGrpSpPr/>
                  <p:nvPr/>
                </p:nvGrpSpPr>
                <p:grpSpPr>
                  <a:xfrm>
                    <a:off x="4712760" y="4131360"/>
                    <a:ext cx="695160" cy="138960"/>
                    <a:chOff x="4712760" y="4131360"/>
                    <a:chExt cx="695160" cy="138960"/>
                  </a:xfrm>
                </p:grpSpPr>
                <p:grpSp>
                  <p:nvGrpSpPr>
                    <p:cNvPr id="542" name="Group 88"/>
                    <p:cNvGrpSpPr/>
                    <p:nvPr/>
                  </p:nvGrpSpPr>
                  <p:grpSpPr>
                    <a:xfrm>
                      <a:off x="4712760" y="4131720"/>
                      <a:ext cx="286920" cy="138600"/>
                      <a:chOff x="4712760" y="4131720"/>
                      <a:chExt cx="286920" cy="138600"/>
                    </a:xfrm>
                  </p:grpSpPr>
                  <p:sp>
                    <p:nvSpPr>
                      <p:cNvPr id="543" name="Freeform 89"/>
                      <p:cNvSpPr/>
                      <p:nvPr/>
                    </p:nvSpPr>
                    <p:spPr>
                      <a:xfrm flipH="1" rot="16200000">
                        <a:off x="4821120" y="409212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44" name="Line 90"/>
                      <p:cNvSpPr/>
                      <p:nvPr/>
                    </p:nvSpPr>
                    <p:spPr>
                      <a:xfrm>
                        <a:off x="4793400" y="417564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45" name="Line 91"/>
                      <p:cNvSpPr/>
                      <p:nvPr/>
                    </p:nvSpPr>
                    <p:spPr>
                      <a:xfrm>
                        <a:off x="4856400" y="413172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46" name="AutoShape 92"/>
                    <p:cNvCxnSpPr/>
                    <p:nvPr/>
                  </p:nvCxnSpPr>
                  <p:spPr>
                    <a:xfrm>
                      <a:off x="4858200" y="413136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47" name="Group 93"/>
                  <p:cNvGrpSpPr/>
                  <p:nvPr/>
                </p:nvGrpSpPr>
                <p:grpSpPr>
                  <a:xfrm>
                    <a:off x="4706640" y="4314240"/>
                    <a:ext cx="695160" cy="138960"/>
                    <a:chOff x="4706640" y="4314240"/>
                    <a:chExt cx="695160" cy="138960"/>
                  </a:xfrm>
                </p:grpSpPr>
                <p:grpSp>
                  <p:nvGrpSpPr>
                    <p:cNvPr id="548" name="Group 94"/>
                    <p:cNvGrpSpPr/>
                    <p:nvPr/>
                  </p:nvGrpSpPr>
                  <p:grpSpPr>
                    <a:xfrm>
                      <a:off x="4706640" y="4314600"/>
                      <a:ext cx="286920" cy="138600"/>
                      <a:chOff x="4706640" y="4314600"/>
                      <a:chExt cx="286920" cy="138600"/>
                    </a:xfrm>
                  </p:grpSpPr>
                  <p:sp>
                    <p:nvSpPr>
                      <p:cNvPr id="549" name="Freeform 95"/>
                      <p:cNvSpPr/>
                      <p:nvPr/>
                    </p:nvSpPr>
                    <p:spPr>
                      <a:xfrm flipH="1" rot="16200000">
                        <a:off x="4815000" y="427500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50" name="Line 96"/>
                      <p:cNvSpPr/>
                      <p:nvPr/>
                    </p:nvSpPr>
                    <p:spPr>
                      <a:xfrm>
                        <a:off x="4787280" y="435852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51" name="Line 97"/>
                      <p:cNvSpPr/>
                      <p:nvPr/>
                    </p:nvSpPr>
                    <p:spPr>
                      <a:xfrm>
                        <a:off x="4850280" y="431460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52" name="AutoShape 98"/>
                    <p:cNvCxnSpPr/>
                    <p:nvPr/>
                  </p:nvCxnSpPr>
                  <p:spPr>
                    <a:xfrm>
                      <a:off x="4852080" y="431424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53" name="Group 99"/>
                  <p:cNvGrpSpPr/>
                  <p:nvPr/>
                </p:nvGrpSpPr>
                <p:grpSpPr>
                  <a:xfrm>
                    <a:off x="4707720" y="4502520"/>
                    <a:ext cx="695160" cy="138600"/>
                    <a:chOff x="4707720" y="4502520"/>
                    <a:chExt cx="695160" cy="138600"/>
                  </a:xfrm>
                </p:grpSpPr>
                <p:grpSp>
                  <p:nvGrpSpPr>
                    <p:cNvPr id="554" name="Group 100"/>
                    <p:cNvGrpSpPr/>
                    <p:nvPr/>
                  </p:nvGrpSpPr>
                  <p:grpSpPr>
                    <a:xfrm>
                      <a:off x="4707720" y="4502880"/>
                      <a:ext cx="286920" cy="138240"/>
                      <a:chOff x="4707720" y="4502880"/>
                      <a:chExt cx="286920" cy="138240"/>
                    </a:xfrm>
                  </p:grpSpPr>
                  <p:sp>
                    <p:nvSpPr>
                      <p:cNvPr id="555" name="Freeform 101"/>
                      <p:cNvSpPr/>
                      <p:nvPr/>
                    </p:nvSpPr>
                    <p:spPr>
                      <a:xfrm flipH="1" rot="16200000">
                        <a:off x="4816080" y="446292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56" name="Line 102"/>
                      <p:cNvSpPr/>
                      <p:nvPr/>
                    </p:nvSpPr>
                    <p:spPr>
                      <a:xfrm>
                        <a:off x="4788360" y="454644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57" name="Line 103"/>
                      <p:cNvSpPr/>
                      <p:nvPr/>
                    </p:nvSpPr>
                    <p:spPr>
                      <a:xfrm>
                        <a:off x="4851360" y="4502880"/>
                        <a:ext cx="0" cy="43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58" name="AutoShape 104"/>
                    <p:cNvCxnSpPr/>
                    <p:nvPr/>
                  </p:nvCxnSpPr>
                  <p:spPr>
                    <a:xfrm>
                      <a:off x="4853160" y="450252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59" name="Group 105"/>
                  <p:cNvGrpSpPr/>
                  <p:nvPr/>
                </p:nvGrpSpPr>
                <p:grpSpPr>
                  <a:xfrm>
                    <a:off x="4701600" y="4685760"/>
                    <a:ext cx="695160" cy="138960"/>
                    <a:chOff x="4701600" y="4685760"/>
                    <a:chExt cx="695160" cy="138960"/>
                  </a:xfrm>
                </p:grpSpPr>
                <p:grpSp>
                  <p:nvGrpSpPr>
                    <p:cNvPr id="560" name="Group 106"/>
                    <p:cNvGrpSpPr/>
                    <p:nvPr/>
                  </p:nvGrpSpPr>
                  <p:grpSpPr>
                    <a:xfrm>
                      <a:off x="4701600" y="4686120"/>
                      <a:ext cx="286920" cy="138600"/>
                      <a:chOff x="4701600" y="4686120"/>
                      <a:chExt cx="286920" cy="138600"/>
                    </a:xfrm>
                  </p:grpSpPr>
                  <p:sp>
                    <p:nvSpPr>
                      <p:cNvPr id="561" name="Freeform 107"/>
                      <p:cNvSpPr/>
                      <p:nvPr/>
                    </p:nvSpPr>
                    <p:spPr>
                      <a:xfrm flipH="1" rot="16200000">
                        <a:off x="4809960" y="464652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62" name="Line 108"/>
                      <p:cNvSpPr/>
                      <p:nvPr/>
                    </p:nvSpPr>
                    <p:spPr>
                      <a:xfrm>
                        <a:off x="4782240" y="473004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63" name="Line 109"/>
                      <p:cNvSpPr/>
                      <p:nvPr/>
                    </p:nvSpPr>
                    <p:spPr>
                      <a:xfrm>
                        <a:off x="4845240" y="468612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64" name="AutoShape 110"/>
                    <p:cNvCxnSpPr/>
                    <p:nvPr/>
                  </p:nvCxnSpPr>
                  <p:spPr>
                    <a:xfrm>
                      <a:off x="4847040" y="468576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cxnSp>
              <p:nvCxnSpPr>
                <p:cNvPr id="565" name="AutoShape 111"/>
                <p:cNvCxnSpPr/>
                <p:nvPr/>
              </p:nvCxnSpPr>
              <p:spPr>
                <a:xfrm flipH="1" flipV="1">
                  <a:off x="5825880" y="1432800"/>
                  <a:ext cx="1080" cy="36968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566" name="Group 112"/>
              <p:cNvGrpSpPr/>
              <p:nvPr/>
            </p:nvGrpSpPr>
            <p:grpSpPr>
              <a:xfrm>
                <a:off x="1644840" y="1328400"/>
                <a:ext cx="3060000" cy="3806280"/>
                <a:chOff x="1644840" y="1328400"/>
                <a:chExt cx="3060000" cy="3806280"/>
              </a:xfrm>
            </p:grpSpPr>
            <p:sp>
              <p:nvSpPr>
                <p:cNvPr id="567" name="Text Box 113"/>
                <p:cNvSpPr/>
                <p:nvPr/>
              </p:nvSpPr>
              <p:spPr>
                <a:xfrm>
                  <a:off x="1644840" y="1658520"/>
                  <a:ext cx="1024920" cy="215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from  Figure 5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68" name="Group 114"/>
                <p:cNvGrpSpPr/>
                <p:nvPr/>
              </p:nvGrpSpPr>
              <p:grpSpPr>
                <a:xfrm>
                  <a:off x="2628000" y="1328400"/>
                  <a:ext cx="2076840" cy="3806280"/>
                  <a:chOff x="2628000" y="1328400"/>
                  <a:chExt cx="2076840" cy="3806280"/>
                </a:xfrm>
              </p:grpSpPr>
              <p:grpSp>
                <p:nvGrpSpPr>
                  <p:cNvPr id="569" name="Group 115"/>
                  <p:cNvGrpSpPr/>
                  <p:nvPr/>
                </p:nvGrpSpPr>
                <p:grpSpPr>
                  <a:xfrm>
                    <a:off x="2628000" y="1437840"/>
                    <a:ext cx="1930320" cy="3696840"/>
                    <a:chOff x="2628000" y="1437840"/>
                    <a:chExt cx="1930320" cy="3696840"/>
                  </a:xfrm>
                </p:grpSpPr>
                <p:cxnSp>
                  <p:nvCxnSpPr>
                    <p:cNvPr id="570" name="AutoShape 116"/>
                    <p:cNvCxnSpPr/>
                    <p:nvPr/>
                  </p:nvCxnSpPr>
                  <p:spPr>
                    <a:xfrm flipH="1">
                      <a:off x="2628000" y="1765800"/>
                      <a:ext cx="121716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grpSp>
                  <p:nvGrpSpPr>
                    <p:cNvPr id="571" name="Group 117"/>
                    <p:cNvGrpSpPr/>
                    <p:nvPr/>
                  </p:nvGrpSpPr>
                  <p:grpSpPr>
                    <a:xfrm>
                      <a:off x="3436200" y="4728240"/>
                      <a:ext cx="831600" cy="402480"/>
                      <a:chOff x="3436200" y="4728240"/>
                      <a:chExt cx="831600" cy="402480"/>
                    </a:xfrm>
                  </p:grpSpPr>
                  <p:sp>
                    <p:nvSpPr>
                      <p:cNvPr id="572" name="Freeform 118"/>
                      <p:cNvSpPr/>
                      <p:nvPr/>
                    </p:nvSpPr>
                    <p:spPr>
                      <a:xfrm rot="5400000">
                        <a:off x="3751560" y="4614480"/>
                        <a:ext cx="200880" cy="8316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73" name="Line 119"/>
                      <p:cNvSpPr/>
                      <p:nvPr/>
                    </p:nvSpPr>
                    <p:spPr>
                      <a:xfrm flipH="1">
                        <a:off x="3672000" y="4855680"/>
                        <a:ext cx="361440" cy="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74" name="Line 120"/>
                      <p:cNvSpPr/>
                      <p:nvPr/>
                    </p:nvSpPr>
                    <p:spPr>
                      <a:xfrm flipH="1">
                        <a:off x="3850560" y="4728240"/>
                        <a:ext cx="720" cy="127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75" name="AutoShape 121"/>
                    <p:cNvCxnSpPr/>
                    <p:nvPr/>
                  </p:nvCxnSpPr>
                  <p:spPr>
                    <a:xfrm flipV="1">
                      <a:off x="4254480" y="2015640"/>
                      <a:ext cx="9360" cy="31064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576" name="AutoShape 122"/>
                    <p:cNvCxnSpPr/>
                    <p:nvPr/>
                  </p:nvCxnSpPr>
                  <p:spPr>
                    <a:xfrm flipH="1" flipV="1">
                      <a:off x="3844440" y="1766520"/>
                      <a:ext cx="5760" cy="29617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grpSp>
                  <p:nvGrpSpPr>
                    <p:cNvPr id="577" name="Group 123"/>
                    <p:cNvGrpSpPr/>
                    <p:nvPr/>
                  </p:nvGrpSpPr>
                  <p:grpSpPr>
                    <a:xfrm>
                      <a:off x="3845880" y="1877400"/>
                      <a:ext cx="708840" cy="1444680"/>
                      <a:chOff x="3845880" y="1877400"/>
                      <a:chExt cx="708840" cy="1444680"/>
                    </a:xfrm>
                  </p:grpSpPr>
                  <p:grpSp>
                    <p:nvGrpSpPr>
                      <p:cNvPr id="578" name="Group 124"/>
                      <p:cNvGrpSpPr/>
                      <p:nvPr/>
                    </p:nvGrpSpPr>
                    <p:grpSpPr>
                      <a:xfrm>
                        <a:off x="3848400" y="1877400"/>
                        <a:ext cx="695160" cy="138960"/>
                        <a:chOff x="3848400" y="1877400"/>
                        <a:chExt cx="695160" cy="138960"/>
                      </a:xfrm>
                    </p:grpSpPr>
                    <p:grpSp>
                      <p:nvGrpSpPr>
                        <p:cNvPr id="579" name="Group 125"/>
                        <p:cNvGrpSpPr/>
                        <p:nvPr/>
                      </p:nvGrpSpPr>
                      <p:grpSpPr>
                        <a:xfrm>
                          <a:off x="4256640" y="1877760"/>
                          <a:ext cx="286920" cy="138600"/>
                          <a:chOff x="4256640" y="1877760"/>
                          <a:chExt cx="286920" cy="138600"/>
                        </a:xfrm>
                      </p:grpSpPr>
                      <p:sp>
                        <p:nvSpPr>
                          <p:cNvPr id="580" name="Freeform 126"/>
                          <p:cNvSpPr/>
                          <p:nvPr/>
                        </p:nvSpPr>
                        <p:spPr>
                          <a:xfrm rot="5400000">
                            <a:off x="4365360" y="183816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1" name="Line 127"/>
                          <p:cNvSpPr/>
                          <p:nvPr/>
                        </p:nvSpPr>
                        <p:spPr>
                          <a:xfrm flipH="1">
                            <a:off x="4338360" y="192168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2" name="Line 128"/>
                          <p:cNvSpPr/>
                          <p:nvPr/>
                        </p:nvSpPr>
                        <p:spPr>
                          <a:xfrm>
                            <a:off x="4399920" y="187776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583" name="AutoShape 129"/>
                        <p:cNvCxnSpPr/>
                        <p:nvPr/>
                      </p:nvCxnSpPr>
                      <p:spPr>
                        <a:xfrm flipH="1">
                          <a:off x="3848400" y="187740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584" name="Group 130"/>
                      <p:cNvGrpSpPr/>
                      <p:nvPr/>
                    </p:nvGrpSpPr>
                    <p:grpSpPr>
                      <a:xfrm>
                        <a:off x="3854520" y="2060640"/>
                        <a:ext cx="695160" cy="138960"/>
                        <a:chOff x="3854520" y="2060640"/>
                        <a:chExt cx="695160" cy="138960"/>
                      </a:xfrm>
                    </p:grpSpPr>
                    <p:grpSp>
                      <p:nvGrpSpPr>
                        <p:cNvPr id="585" name="Group 131"/>
                        <p:cNvGrpSpPr/>
                        <p:nvPr/>
                      </p:nvGrpSpPr>
                      <p:grpSpPr>
                        <a:xfrm>
                          <a:off x="4262760" y="2061000"/>
                          <a:ext cx="286920" cy="138600"/>
                          <a:chOff x="4262760" y="2061000"/>
                          <a:chExt cx="286920" cy="138600"/>
                        </a:xfrm>
                      </p:grpSpPr>
                      <p:sp>
                        <p:nvSpPr>
                          <p:cNvPr id="586" name="Freeform 132"/>
                          <p:cNvSpPr/>
                          <p:nvPr/>
                        </p:nvSpPr>
                        <p:spPr>
                          <a:xfrm rot="5400000">
                            <a:off x="4371480" y="202140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7" name="Line 133"/>
                          <p:cNvSpPr/>
                          <p:nvPr/>
                        </p:nvSpPr>
                        <p:spPr>
                          <a:xfrm flipH="1">
                            <a:off x="4344480" y="210492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8" name="Line 134"/>
                          <p:cNvSpPr/>
                          <p:nvPr/>
                        </p:nvSpPr>
                        <p:spPr>
                          <a:xfrm>
                            <a:off x="4406040" y="206100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589" name="AutoShape 135"/>
                        <p:cNvCxnSpPr/>
                        <p:nvPr/>
                      </p:nvCxnSpPr>
                      <p:spPr>
                        <a:xfrm flipH="1">
                          <a:off x="3854520" y="206064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590" name="Group 136"/>
                      <p:cNvGrpSpPr/>
                      <p:nvPr/>
                    </p:nvGrpSpPr>
                    <p:grpSpPr>
                      <a:xfrm>
                        <a:off x="3853440" y="2248560"/>
                        <a:ext cx="695160" cy="138960"/>
                        <a:chOff x="3853440" y="2248560"/>
                        <a:chExt cx="695160" cy="138960"/>
                      </a:xfrm>
                    </p:grpSpPr>
                    <p:grpSp>
                      <p:nvGrpSpPr>
                        <p:cNvPr id="591" name="Group 137"/>
                        <p:cNvGrpSpPr/>
                        <p:nvPr/>
                      </p:nvGrpSpPr>
                      <p:grpSpPr>
                        <a:xfrm>
                          <a:off x="4261680" y="2248920"/>
                          <a:ext cx="286920" cy="138600"/>
                          <a:chOff x="4261680" y="2248920"/>
                          <a:chExt cx="286920" cy="138600"/>
                        </a:xfrm>
                      </p:grpSpPr>
                      <p:sp>
                        <p:nvSpPr>
                          <p:cNvPr id="592" name="Freeform 138"/>
                          <p:cNvSpPr/>
                          <p:nvPr/>
                        </p:nvSpPr>
                        <p:spPr>
                          <a:xfrm rot="5400000">
                            <a:off x="4370400" y="220932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3" name="Line 139"/>
                          <p:cNvSpPr/>
                          <p:nvPr/>
                        </p:nvSpPr>
                        <p:spPr>
                          <a:xfrm flipH="1">
                            <a:off x="4343400" y="229284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4" name="Line 140"/>
                          <p:cNvSpPr/>
                          <p:nvPr/>
                        </p:nvSpPr>
                        <p:spPr>
                          <a:xfrm>
                            <a:off x="4404960" y="224892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595" name="AutoShape 141"/>
                        <p:cNvCxnSpPr/>
                        <p:nvPr/>
                      </p:nvCxnSpPr>
                      <p:spPr>
                        <a:xfrm flipH="1">
                          <a:off x="3853440" y="224856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596" name="Group 142"/>
                      <p:cNvGrpSpPr/>
                      <p:nvPr/>
                    </p:nvGrpSpPr>
                    <p:grpSpPr>
                      <a:xfrm>
                        <a:off x="3859560" y="2431800"/>
                        <a:ext cx="695160" cy="138600"/>
                        <a:chOff x="3859560" y="2431800"/>
                        <a:chExt cx="695160" cy="138600"/>
                      </a:xfrm>
                    </p:grpSpPr>
                    <p:grpSp>
                      <p:nvGrpSpPr>
                        <p:cNvPr id="597" name="Group 143"/>
                        <p:cNvGrpSpPr/>
                        <p:nvPr/>
                      </p:nvGrpSpPr>
                      <p:grpSpPr>
                        <a:xfrm>
                          <a:off x="4267800" y="2432160"/>
                          <a:ext cx="286920" cy="138240"/>
                          <a:chOff x="4267800" y="2432160"/>
                          <a:chExt cx="286920" cy="138240"/>
                        </a:xfrm>
                      </p:grpSpPr>
                      <p:sp>
                        <p:nvSpPr>
                          <p:cNvPr id="598" name="Freeform 144"/>
                          <p:cNvSpPr/>
                          <p:nvPr/>
                        </p:nvSpPr>
                        <p:spPr>
                          <a:xfrm rot="5400000">
                            <a:off x="4376520" y="239220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9" name="Line 145"/>
                          <p:cNvSpPr/>
                          <p:nvPr/>
                        </p:nvSpPr>
                        <p:spPr>
                          <a:xfrm flipH="1">
                            <a:off x="4349520" y="247572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0" name="Line 146"/>
                          <p:cNvSpPr/>
                          <p:nvPr/>
                        </p:nvSpPr>
                        <p:spPr>
                          <a:xfrm>
                            <a:off x="4411080" y="2432160"/>
                            <a:ext cx="0" cy="435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" bIns="-3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01" name="AutoShape 147"/>
                        <p:cNvCxnSpPr/>
                        <p:nvPr/>
                      </p:nvCxnSpPr>
                      <p:spPr>
                        <a:xfrm flipH="1">
                          <a:off x="3859560" y="243180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02" name="Group 148"/>
                      <p:cNvGrpSpPr/>
                      <p:nvPr/>
                    </p:nvGrpSpPr>
                    <p:grpSpPr>
                      <a:xfrm>
                        <a:off x="3845880" y="2628720"/>
                        <a:ext cx="695160" cy="138960"/>
                        <a:chOff x="3845880" y="2628720"/>
                        <a:chExt cx="695160" cy="138960"/>
                      </a:xfrm>
                    </p:grpSpPr>
                    <p:grpSp>
                      <p:nvGrpSpPr>
                        <p:cNvPr id="603" name="Group 149"/>
                        <p:cNvGrpSpPr/>
                        <p:nvPr/>
                      </p:nvGrpSpPr>
                      <p:grpSpPr>
                        <a:xfrm>
                          <a:off x="4254120" y="2629080"/>
                          <a:ext cx="286920" cy="138600"/>
                          <a:chOff x="4254120" y="2629080"/>
                          <a:chExt cx="286920" cy="138600"/>
                        </a:xfrm>
                      </p:grpSpPr>
                      <p:sp>
                        <p:nvSpPr>
                          <p:cNvPr id="604" name="Freeform 150"/>
                          <p:cNvSpPr/>
                          <p:nvPr/>
                        </p:nvSpPr>
                        <p:spPr>
                          <a:xfrm rot="5400000">
                            <a:off x="4362840" y="258948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5" name="Line 151"/>
                          <p:cNvSpPr/>
                          <p:nvPr/>
                        </p:nvSpPr>
                        <p:spPr>
                          <a:xfrm flipH="1">
                            <a:off x="4335840" y="267300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6" name="Line 152"/>
                          <p:cNvSpPr/>
                          <p:nvPr/>
                        </p:nvSpPr>
                        <p:spPr>
                          <a:xfrm>
                            <a:off x="4397400" y="262908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07" name="AutoShape 153"/>
                        <p:cNvCxnSpPr/>
                        <p:nvPr/>
                      </p:nvCxnSpPr>
                      <p:spPr>
                        <a:xfrm flipH="1">
                          <a:off x="3845880" y="262872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08" name="Group 154"/>
                      <p:cNvGrpSpPr/>
                      <p:nvPr/>
                    </p:nvGrpSpPr>
                    <p:grpSpPr>
                      <a:xfrm>
                        <a:off x="3852000" y="2811600"/>
                        <a:ext cx="695160" cy="138960"/>
                        <a:chOff x="3852000" y="2811600"/>
                        <a:chExt cx="695160" cy="138960"/>
                      </a:xfrm>
                    </p:grpSpPr>
                    <p:grpSp>
                      <p:nvGrpSpPr>
                        <p:cNvPr id="609" name="Group 155"/>
                        <p:cNvGrpSpPr/>
                        <p:nvPr/>
                      </p:nvGrpSpPr>
                      <p:grpSpPr>
                        <a:xfrm>
                          <a:off x="4260240" y="2811960"/>
                          <a:ext cx="286920" cy="138600"/>
                          <a:chOff x="4260240" y="2811960"/>
                          <a:chExt cx="286920" cy="138600"/>
                        </a:xfrm>
                      </p:grpSpPr>
                      <p:sp>
                        <p:nvSpPr>
                          <p:cNvPr id="610" name="Freeform 156"/>
                          <p:cNvSpPr/>
                          <p:nvPr/>
                        </p:nvSpPr>
                        <p:spPr>
                          <a:xfrm rot="5400000">
                            <a:off x="4368960" y="277236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1" name="Line 157"/>
                          <p:cNvSpPr/>
                          <p:nvPr/>
                        </p:nvSpPr>
                        <p:spPr>
                          <a:xfrm flipH="1">
                            <a:off x="4341960" y="285588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2" name="Line 158"/>
                          <p:cNvSpPr/>
                          <p:nvPr/>
                        </p:nvSpPr>
                        <p:spPr>
                          <a:xfrm>
                            <a:off x="4403520" y="281196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13" name="AutoShape 159"/>
                        <p:cNvCxnSpPr/>
                        <p:nvPr/>
                      </p:nvCxnSpPr>
                      <p:spPr>
                        <a:xfrm flipH="1">
                          <a:off x="3852000" y="281160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14" name="Group 160"/>
                      <p:cNvGrpSpPr/>
                      <p:nvPr/>
                    </p:nvGrpSpPr>
                    <p:grpSpPr>
                      <a:xfrm>
                        <a:off x="3850920" y="2999880"/>
                        <a:ext cx="695160" cy="138600"/>
                        <a:chOff x="3850920" y="2999880"/>
                        <a:chExt cx="695160" cy="138600"/>
                      </a:xfrm>
                    </p:grpSpPr>
                    <p:grpSp>
                      <p:nvGrpSpPr>
                        <p:cNvPr id="615" name="Group 161"/>
                        <p:cNvGrpSpPr/>
                        <p:nvPr/>
                      </p:nvGrpSpPr>
                      <p:grpSpPr>
                        <a:xfrm>
                          <a:off x="4259160" y="3000240"/>
                          <a:ext cx="286920" cy="138240"/>
                          <a:chOff x="4259160" y="3000240"/>
                          <a:chExt cx="286920" cy="138240"/>
                        </a:xfrm>
                      </p:grpSpPr>
                      <p:sp>
                        <p:nvSpPr>
                          <p:cNvPr id="616" name="Freeform 162"/>
                          <p:cNvSpPr/>
                          <p:nvPr/>
                        </p:nvSpPr>
                        <p:spPr>
                          <a:xfrm rot="5400000">
                            <a:off x="4367880" y="296028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7" name="Line 163"/>
                          <p:cNvSpPr/>
                          <p:nvPr/>
                        </p:nvSpPr>
                        <p:spPr>
                          <a:xfrm flipH="1">
                            <a:off x="4340880" y="304380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8" name="Line 164"/>
                          <p:cNvSpPr/>
                          <p:nvPr/>
                        </p:nvSpPr>
                        <p:spPr>
                          <a:xfrm>
                            <a:off x="4402440" y="3000240"/>
                            <a:ext cx="0" cy="435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" bIns="-3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19" name="AutoShape 165"/>
                        <p:cNvCxnSpPr/>
                        <p:nvPr/>
                      </p:nvCxnSpPr>
                      <p:spPr>
                        <a:xfrm flipH="1">
                          <a:off x="3850920" y="299988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20" name="Group 166"/>
                      <p:cNvGrpSpPr/>
                      <p:nvPr/>
                    </p:nvGrpSpPr>
                    <p:grpSpPr>
                      <a:xfrm>
                        <a:off x="3857040" y="3183120"/>
                        <a:ext cx="695160" cy="138960"/>
                        <a:chOff x="3857040" y="3183120"/>
                        <a:chExt cx="695160" cy="138960"/>
                      </a:xfrm>
                    </p:grpSpPr>
                    <p:grpSp>
                      <p:nvGrpSpPr>
                        <p:cNvPr id="621" name="Group 167"/>
                        <p:cNvGrpSpPr/>
                        <p:nvPr/>
                      </p:nvGrpSpPr>
                      <p:grpSpPr>
                        <a:xfrm>
                          <a:off x="4265280" y="3183480"/>
                          <a:ext cx="286920" cy="138600"/>
                          <a:chOff x="4265280" y="3183480"/>
                          <a:chExt cx="286920" cy="138600"/>
                        </a:xfrm>
                      </p:grpSpPr>
                      <p:sp>
                        <p:nvSpPr>
                          <p:cNvPr id="622" name="Freeform 168"/>
                          <p:cNvSpPr/>
                          <p:nvPr/>
                        </p:nvSpPr>
                        <p:spPr>
                          <a:xfrm rot="5400000">
                            <a:off x="4374000" y="314388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23" name="Line 169"/>
                          <p:cNvSpPr/>
                          <p:nvPr/>
                        </p:nvSpPr>
                        <p:spPr>
                          <a:xfrm flipH="1">
                            <a:off x="4347000" y="322740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24" name="Line 170"/>
                          <p:cNvSpPr/>
                          <p:nvPr/>
                        </p:nvSpPr>
                        <p:spPr>
                          <a:xfrm>
                            <a:off x="4408560" y="318348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25" name="AutoShape 171"/>
                        <p:cNvCxnSpPr/>
                        <p:nvPr/>
                      </p:nvCxnSpPr>
                      <p:spPr>
                        <a:xfrm flipH="1">
                          <a:off x="3857040" y="318312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</p:grpSp>
                <p:grpSp>
                  <p:nvGrpSpPr>
                    <p:cNvPr id="626" name="Group 172"/>
                    <p:cNvGrpSpPr/>
                    <p:nvPr/>
                  </p:nvGrpSpPr>
                  <p:grpSpPr>
                    <a:xfrm>
                      <a:off x="3849480" y="3385080"/>
                      <a:ext cx="708840" cy="1444680"/>
                      <a:chOff x="3849480" y="3385080"/>
                      <a:chExt cx="708840" cy="1444680"/>
                    </a:xfrm>
                  </p:grpSpPr>
                  <p:grpSp>
                    <p:nvGrpSpPr>
                      <p:cNvPr id="627" name="Group 173"/>
                      <p:cNvGrpSpPr/>
                      <p:nvPr/>
                    </p:nvGrpSpPr>
                    <p:grpSpPr>
                      <a:xfrm>
                        <a:off x="3852000" y="3385080"/>
                        <a:ext cx="695160" cy="138960"/>
                        <a:chOff x="3852000" y="3385080"/>
                        <a:chExt cx="695160" cy="138960"/>
                      </a:xfrm>
                    </p:grpSpPr>
                    <p:grpSp>
                      <p:nvGrpSpPr>
                        <p:cNvPr id="628" name="Group 174"/>
                        <p:cNvGrpSpPr/>
                        <p:nvPr/>
                      </p:nvGrpSpPr>
                      <p:grpSpPr>
                        <a:xfrm>
                          <a:off x="4260240" y="3385440"/>
                          <a:ext cx="286920" cy="138600"/>
                          <a:chOff x="4260240" y="3385440"/>
                          <a:chExt cx="286920" cy="138600"/>
                        </a:xfrm>
                      </p:grpSpPr>
                      <p:sp>
                        <p:nvSpPr>
                          <p:cNvPr id="629" name="Freeform 175"/>
                          <p:cNvSpPr/>
                          <p:nvPr/>
                        </p:nvSpPr>
                        <p:spPr>
                          <a:xfrm rot="5400000">
                            <a:off x="4368960" y="334584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30" name="Line 176"/>
                          <p:cNvSpPr/>
                          <p:nvPr/>
                        </p:nvSpPr>
                        <p:spPr>
                          <a:xfrm flipH="1">
                            <a:off x="4341960" y="342936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31" name="Line 177"/>
                          <p:cNvSpPr/>
                          <p:nvPr/>
                        </p:nvSpPr>
                        <p:spPr>
                          <a:xfrm>
                            <a:off x="4403520" y="338544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32" name="AutoShape 178"/>
                        <p:cNvCxnSpPr/>
                        <p:nvPr/>
                      </p:nvCxnSpPr>
                      <p:spPr>
                        <a:xfrm flipH="1">
                          <a:off x="3852000" y="338508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33" name="Group 179"/>
                      <p:cNvGrpSpPr/>
                      <p:nvPr/>
                    </p:nvGrpSpPr>
                    <p:grpSpPr>
                      <a:xfrm>
                        <a:off x="3858120" y="3568320"/>
                        <a:ext cx="695160" cy="138960"/>
                        <a:chOff x="3858120" y="3568320"/>
                        <a:chExt cx="695160" cy="138960"/>
                      </a:xfrm>
                    </p:grpSpPr>
                    <p:grpSp>
                      <p:nvGrpSpPr>
                        <p:cNvPr id="634" name="Group 180"/>
                        <p:cNvGrpSpPr/>
                        <p:nvPr/>
                      </p:nvGrpSpPr>
                      <p:grpSpPr>
                        <a:xfrm>
                          <a:off x="4266360" y="3568680"/>
                          <a:ext cx="286920" cy="138600"/>
                          <a:chOff x="4266360" y="3568680"/>
                          <a:chExt cx="286920" cy="138600"/>
                        </a:xfrm>
                      </p:grpSpPr>
                      <p:sp>
                        <p:nvSpPr>
                          <p:cNvPr id="635" name="Freeform 181"/>
                          <p:cNvSpPr/>
                          <p:nvPr/>
                        </p:nvSpPr>
                        <p:spPr>
                          <a:xfrm rot="5400000">
                            <a:off x="4375080" y="352908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36" name="Line 182"/>
                          <p:cNvSpPr/>
                          <p:nvPr/>
                        </p:nvSpPr>
                        <p:spPr>
                          <a:xfrm flipH="1">
                            <a:off x="4348080" y="361260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37" name="Line 183"/>
                          <p:cNvSpPr/>
                          <p:nvPr/>
                        </p:nvSpPr>
                        <p:spPr>
                          <a:xfrm>
                            <a:off x="4409640" y="356868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38" name="AutoShape 184"/>
                        <p:cNvCxnSpPr/>
                        <p:nvPr/>
                      </p:nvCxnSpPr>
                      <p:spPr>
                        <a:xfrm flipH="1">
                          <a:off x="3858120" y="356832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39" name="Group 185"/>
                      <p:cNvGrpSpPr/>
                      <p:nvPr/>
                    </p:nvGrpSpPr>
                    <p:grpSpPr>
                      <a:xfrm>
                        <a:off x="3857040" y="3756240"/>
                        <a:ext cx="695160" cy="138960"/>
                        <a:chOff x="3857040" y="3756240"/>
                        <a:chExt cx="695160" cy="138960"/>
                      </a:xfrm>
                    </p:grpSpPr>
                    <p:grpSp>
                      <p:nvGrpSpPr>
                        <p:cNvPr id="640" name="Group 186"/>
                        <p:cNvGrpSpPr/>
                        <p:nvPr/>
                      </p:nvGrpSpPr>
                      <p:grpSpPr>
                        <a:xfrm>
                          <a:off x="4265280" y="3756600"/>
                          <a:ext cx="286920" cy="138600"/>
                          <a:chOff x="4265280" y="3756600"/>
                          <a:chExt cx="286920" cy="138600"/>
                        </a:xfrm>
                      </p:grpSpPr>
                      <p:sp>
                        <p:nvSpPr>
                          <p:cNvPr id="641" name="Freeform 187"/>
                          <p:cNvSpPr/>
                          <p:nvPr/>
                        </p:nvSpPr>
                        <p:spPr>
                          <a:xfrm rot="5400000">
                            <a:off x="4374000" y="371700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42" name="Line 188"/>
                          <p:cNvSpPr/>
                          <p:nvPr/>
                        </p:nvSpPr>
                        <p:spPr>
                          <a:xfrm flipH="1">
                            <a:off x="4347000" y="380052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43" name="Line 189"/>
                          <p:cNvSpPr/>
                          <p:nvPr/>
                        </p:nvSpPr>
                        <p:spPr>
                          <a:xfrm>
                            <a:off x="4408560" y="375660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44" name="AutoShape 190"/>
                        <p:cNvCxnSpPr/>
                        <p:nvPr/>
                      </p:nvCxnSpPr>
                      <p:spPr>
                        <a:xfrm flipH="1">
                          <a:off x="3857040" y="375624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45" name="Group 191"/>
                      <p:cNvGrpSpPr/>
                      <p:nvPr/>
                    </p:nvGrpSpPr>
                    <p:grpSpPr>
                      <a:xfrm>
                        <a:off x="3863160" y="3939480"/>
                        <a:ext cx="695160" cy="138600"/>
                        <a:chOff x="3863160" y="3939480"/>
                        <a:chExt cx="695160" cy="138600"/>
                      </a:xfrm>
                    </p:grpSpPr>
                    <p:grpSp>
                      <p:nvGrpSpPr>
                        <p:cNvPr id="646" name="Group 192"/>
                        <p:cNvGrpSpPr/>
                        <p:nvPr/>
                      </p:nvGrpSpPr>
                      <p:grpSpPr>
                        <a:xfrm>
                          <a:off x="4271400" y="3939840"/>
                          <a:ext cx="286920" cy="138240"/>
                          <a:chOff x="4271400" y="3939840"/>
                          <a:chExt cx="286920" cy="138240"/>
                        </a:xfrm>
                      </p:grpSpPr>
                      <p:sp>
                        <p:nvSpPr>
                          <p:cNvPr id="647" name="Freeform 193"/>
                          <p:cNvSpPr/>
                          <p:nvPr/>
                        </p:nvSpPr>
                        <p:spPr>
                          <a:xfrm rot="5400000">
                            <a:off x="4380120" y="389988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48" name="Line 194"/>
                          <p:cNvSpPr/>
                          <p:nvPr/>
                        </p:nvSpPr>
                        <p:spPr>
                          <a:xfrm flipH="1">
                            <a:off x="4353120" y="398340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49" name="Line 195"/>
                          <p:cNvSpPr/>
                          <p:nvPr/>
                        </p:nvSpPr>
                        <p:spPr>
                          <a:xfrm>
                            <a:off x="4414680" y="3939840"/>
                            <a:ext cx="0" cy="435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" bIns="-3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50" name="AutoShape 196"/>
                        <p:cNvCxnSpPr/>
                        <p:nvPr/>
                      </p:nvCxnSpPr>
                      <p:spPr>
                        <a:xfrm flipH="1">
                          <a:off x="3863160" y="393948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51" name="Group 197"/>
                      <p:cNvGrpSpPr/>
                      <p:nvPr/>
                    </p:nvGrpSpPr>
                    <p:grpSpPr>
                      <a:xfrm>
                        <a:off x="3849480" y="4136400"/>
                        <a:ext cx="695160" cy="138960"/>
                        <a:chOff x="3849480" y="4136400"/>
                        <a:chExt cx="695160" cy="138960"/>
                      </a:xfrm>
                    </p:grpSpPr>
                    <p:grpSp>
                      <p:nvGrpSpPr>
                        <p:cNvPr id="652" name="Group 198"/>
                        <p:cNvGrpSpPr/>
                        <p:nvPr/>
                      </p:nvGrpSpPr>
                      <p:grpSpPr>
                        <a:xfrm>
                          <a:off x="4257720" y="4136760"/>
                          <a:ext cx="286920" cy="138600"/>
                          <a:chOff x="4257720" y="4136760"/>
                          <a:chExt cx="286920" cy="138600"/>
                        </a:xfrm>
                      </p:grpSpPr>
                      <p:sp>
                        <p:nvSpPr>
                          <p:cNvPr id="653" name="Freeform 199"/>
                          <p:cNvSpPr/>
                          <p:nvPr/>
                        </p:nvSpPr>
                        <p:spPr>
                          <a:xfrm rot="5400000">
                            <a:off x="4366440" y="409716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54" name="Line 200"/>
                          <p:cNvSpPr/>
                          <p:nvPr/>
                        </p:nvSpPr>
                        <p:spPr>
                          <a:xfrm flipH="1">
                            <a:off x="4339440" y="418068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55" name="Line 201"/>
                          <p:cNvSpPr/>
                          <p:nvPr/>
                        </p:nvSpPr>
                        <p:spPr>
                          <a:xfrm>
                            <a:off x="4401000" y="413676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56" name="AutoShape 202"/>
                        <p:cNvCxnSpPr/>
                        <p:nvPr/>
                      </p:nvCxnSpPr>
                      <p:spPr>
                        <a:xfrm flipH="1">
                          <a:off x="3849480" y="413640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57" name="Group 203"/>
                      <p:cNvGrpSpPr/>
                      <p:nvPr/>
                    </p:nvGrpSpPr>
                    <p:grpSpPr>
                      <a:xfrm>
                        <a:off x="3855600" y="4319280"/>
                        <a:ext cx="695160" cy="138960"/>
                        <a:chOff x="3855600" y="4319280"/>
                        <a:chExt cx="695160" cy="138960"/>
                      </a:xfrm>
                    </p:grpSpPr>
                    <p:grpSp>
                      <p:nvGrpSpPr>
                        <p:cNvPr id="658" name="Group 204"/>
                        <p:cNvGrpSpPr/>
                        <p:nvPr/>
                      </p:nvGrpSpPr>
                      <p:grpSpPr>
                        <a:xfrm>
                          <a:off x="4263840" y="4319640"/>
                          <a:ext cx="286920" cy="138600"/>
                          <a:chOff x="4263840" y="4319640"/>
                          <a:chExt cx="286920" cy="138600"/>
                        </a:xfrm>
                      </p:grpSpPr>
                      <p:sp>
                        <p:nvSpPr>
                          <p:cNvPr id="659" name="Freeform 205"/>
                          <p:cNvSpPr/>
                          <p:nvPr/>
                        </p:nvSpPr>
                        <p:spPr>
                          <a:xfrm rot="5400000">
                            <a:off x="4372560" y="428004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60" name="Line 206"/>
                          <p:cNvSpPr/>
                          <p:nvPr/>
                        </p:nvSpPr>
                        <p:spPr>
                          <a:xfrm flipH="1">
                            <a:off x="4345560" y="436356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61" name="Line 207"/>
                          <p:cNvSpPr/>
                          <p:nvPr/>
                        </p:nvSpPr>
                        <p:spPr>
                          <a:xfrm>
                            <a:off x="4407120" y="431964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62" name="AutoShape 208"/>
                        <p:cNvCxnSpPr/>
                        <p:nvPr/>
                      </p:nvCxnSpPr>
                      <p:spPr>
                        <a:xfrm flipH="1">
                          <a:off x="3855600" y="431928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63" name="Group 209"/>
                      <p:cNvGrpSpPr/>
                      <p:nvPr/>
                    </p:nvGrpSpPr>
                    <p:grpSpPr>
                      <a:xfrm>
                        <a:off x="3854520" y="4507560"/>
                        <a:ext cx="695160" cy="138600"/>
                        <a:chOff x="3854520" y="4507560"/>
                        <a:chExt cx="695160" cy="138600"/>
                      </a:xfrm>
                    </p:grpSpPr>
                    <p:grpSp>
                      <p:nvGrpSpPr>
                        <p:cNvPr id="664" name="Group 210"/>
                        <p:cNvGrpSpPr/>
                        <p:nvPr/>
                      </p:nvGrpSpPr>
                      <p:grpSpPr>
                        <a:xfrm>
                          <a:off x="4262760" y="4507920"/>
                          <a:ext cx="286920" cy="138240"/>
                          <a:chOff x="4262760" y="4507920"/>
                          <a:chExt cx="286920" cy="138240"/>
                        </a:xfrm>
                      </p:grpSpPr>
                      <p:sp>
                        <p:nvSpPr>
                          <p:cNvPr id="665" name="Freeform 211"/>
                          <p:cNvSpPr/>
                          <p:nvPr/>
                        </p:nvSpPr>
                        <p:spPr>
                          <a:xfrm rot="5400000">
                            <a:off x="4371480" y="446796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66" name="Line 212"/>
                          <p:cNvSpPr/>
                          <p:nvPr/>
                        </p:nvSpPr>
                        <p:spPr>
                          <a:xfrm flipH="1">
                            <a:off x="4344480" y="455148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67" name="Line 213"/>
                          <p:cNvSpPr/>
                          <p:nvPr/>
                        </p:nvSpPr>
                        <p:spPr>
                          <a:xfrm>
                            <a:off x="4406040" y="4507920"/>
                            <a:ext cx="0" cy="435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" bIns="-3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68" name="AutoShape 214"/>
                        <p:cNvCxnSpPr/>
                        <p:nvPr/>
                      </p:nvCxnSpPr>
                      <p:spPr>
                        <a:xfrm flipH="1">
                          <a:off x="3854520" y="450756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69" name="Group 215"/>
                      <p:cNvGrpSpPr/>
                      <p:nvPr/>
                    </p:nvGrpSpPr>
                    <p:grpSpPr>
                      <a:xfrm>
                        <a:off x="3860640" y="4690800"/>
                        <a:ext cx="695160" cy="138960"/>
                        <a:chOff x="3860640" y="4690800"/>
                        <a:chExt cx="695160" cy="138960"/>
                      </a:xfrm>
                    </p:grpSpPr>
                    <p:grpSp>
                      <p:nvGrpSpPr>
                        <p:cNvPr id="670" name="Group 216"/>
                        <p:cNvGrpSpPr/>
                        <p:nvPr/>
                      </p:nvGrpSpPr>
                      <p:grpSpPr>
                        <a:xfrm>
                          <a:off x="4268880" y="4691160"/>
                          <a:ext cx="286920" cy="138600"/>
                          <a:chOff x="4268880" y="4691160"/>
                          <a:chExt cx="286920" cy="138600"/>
                        </a:xfrm>
                      </p:grpSpPr>
                      <p:sp>
                        <p:nvSpPr>
                          <p:cNvPr id="671" name="Freeform 217"/>
                          <p:cNvSpPr/>
                          <p:nvPr/>
                        </p:nvSpPr>
                        <p:spPr>
                          <a:xfrm rot="5400000">
                            <a:off x="4377600" y="465156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72" name="Line 218"/>
                          <p:cNvSpPr/>
                          <p:nvPr/>
                        </p:nvSpPr>
                        <p:spPr>
                          <a:xfrm flipH="1">
                            <a:off x="4350600" y="473508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73" name="Line 219"/>
                          <p:cNvSpPr/>
                          <p:nvPr/>
                        </p:nvSpPr>
                        <p:spPr>
                          <a:xfrm>
                            <a:off x="4412160" y="469116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74" name="AutoShape 220"/>
                        <p:cNvCxnSpPr/>
                        <p:nvPr/>
                      </p:nvCxnSpPr>
                      <p:spPr>
                        <a:xfrm flipH="1">
                          <a:off x="3860640" y="469080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</p:grpSp>
                <p:cxnSp>
                  <p:nvCxnSpPr>
                    <p:cNvPr id="675" name="AutoShape 221"/>
                    <p:cNvCxnSpPr/>
                    <p:nvPr/>
                  </p:nvCxnSpPr>
                  <p:spPr>
                    <a:xfrm flipV="1">
                      <a:off x="3431160" y="1437840"/>
                      <a:ext cx="1080" cy="36972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sp>
                <p:nvSpPr>
                  <p:cNvPr id="676" name="Text Box 222"/>
                  <p:cNvSpPr/>
                  <p:nvPr/>
                </p:nvSpPr>
                <p:spPr>
                  <a:xfrm>
                    <a:off x="2914920" y="1328400"/>
                    <a:ext cx="934560" cy="215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  <a:ea typeface="SimSun"/>
                      </a:rPr>
                      <a:t>Global Bit-Lin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677" name="Group 223"/>
                  <p:cNvGrpSpPr/>
                  <p:nvPr/>
                </p:nvGrpSpPr>
                <p:grpSpPr>
                  <a:xfrm>
                    <a:off x="4544640" y="1920960"/>
                    <a:ext cx="160200" cy="2976840"/>
                    <a:chOff x="4544640" y="1920960"/>
                    <a:chExt cx="160200" cy="2976840"/>
                  </a:xfrm>
                </p:grpSpPr>
                <p:sp>
                  <p:nvSpPr>
                    <p:cNvPr id="678" name="Rectangle 224"/>
                    <p:cNvSpPr/>
                    <p:nvPr/>
                  </p:nvSpPr>
                  <p:spPr>
                    <a:xfrm>
                      <a:off x="4549320" y="3432240"/>
                      <a:ext cx="14580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79" name="Rectangle 225"/>
                    <p:cNvSpPr/>
                    <p:nvPr/>
                  </p:nvSpPr>
                  <p:spPr>
                    <a:xfrm>
                      <a:off x="4549320" y="3619080"/>
                      <a:ext cx="14580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0" name="Rectangle 226"/>
                    <p:cNvSpPr/>
                    <p:nvPr/>
                  </p:nvSpPr>
                  <p:spPr>
                    <a:xfrm>
                      <a:off x="4547160" y="380736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1" name="Rectangle 227"/>
                    <p:cNvSpPr/>
                    <p:nvPr/>
                  </p:nvSpPr>
                  <p:spPr>
                    <a:xfrm>
                      <a:off x="4547160" y="3994200"/>
                      <a:ext cx="14544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2" name="Rectangle 228"/>
                    <p:cNvSpPr/>
                    <p:nvPr/>
                  </p:nvSpPr>
                  <p:spPr>
                    <a:xfrm>
                      <a:off x="4547160" y="419112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3" name="Rectangle 229"/>
                    <p:cNvSpPr/>
                    <p:nvPr/>
                  </p:nvSpPr>
                  <p:spPr>
                    <a:xfrm>
                      <a:off x="4547160" y="437688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4" name="Rectangle 230"/>
                    <p:cNvSpPr/>
                    <p:nvPr/>
                  </p:nvSpPr>
                  <p:spPr>
                    <a:xfrm>
                      <a:off x="4544640" y="4564800"/>
                      <a:ext cx="14544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5" name="Rectangle 231"/>
                    <p:cNvSpPr/>
                    <p:nvPr/>
                  </p:nvSpPr>
                  <p:spPr>
                    <a:xfrm>
                      <a:off x="4544640" y="4751640"/>
                      <a:ext cx="14544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6" name="Rectangle 232"/>
                    <p:cNvSpPr/>
                    <p:nvPr/>
                  </p:nvSpPr>
                  <p:spPr>
                    <a:xfrm>
                      <a:off x="4559400" y="1920960"/>
                      <a:ext cx="14544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7" name="Rectangle 233"/>
                    <p:cNvSpPr/>
                    <p:nvPr/>
                  </p:nvSpPr>
                  <p:spPr>
                    <a:xfrm>
                      <a:off x="4559400" y="211392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8" name="Rectangle 234"/>
                    <p:cNvSpPr/>
                    <p:nvPr/>
                  </p:nvSpPr>
                  <p:spPr>
                    <a:xfrm>
                      <a:off x="4556880" y="230328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9" name="Rectangle 235"/>
                    <p:cNvSpPr/>
                    <p:nvPr/>
                  </p:nvSpPr>
                  <p:spPr>
                    <a:xfrm>
                      <a:off x="4556880" y="249768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0" name="Rectangle 236"/>
                    <p:cNvSpPr/>
                    <p:nvPr/>
                  </p:nvSpPr>
                  <p:spPr>
                    <a:xfrm>
                      <a:off x="4556880" y="2679480"/>
                      <a:ext cx="14544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1" name="Rectangle 237"/>
                    <p:cNvSpPr/>
                    <p:nvPr/>
                  </p:nvSpPr>
                  <p:spPr>
                    <a:xfrm>
                      <a:off x="4556880" y="286524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2" name="Rectangle 238"/>
                    <p:cNvSpPr/>
                    <p:nvPr/>
                  </p:nvSpPr>
                  <p:spPr>
                    <a:xfrm>
                      <a:off x="4554360" y="305244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3" name="Rectangle 239"/>
                    <p:cNvSpPr/>
                    <p:nvPr/>
                  </p:nvSpPr>
                  <p:spPr>
                    <a:xfrm>
                      <a:off x="4554360" y="324540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sp>
            <p:nvSpPr>
              <p:cNvPr id="694" name="Text Box 240"/>
              <p:cNvSpPr/>
              <p:nvPr/>
            </p:nvSpPr>
            <p:spPr>
              <a:xfrm>
                <a:off x="5011560" y="1328400"/>
                <a:ext cx="1595880" cy="21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  <a:ea typeface="SimSun"/>
                  </a:rPr>
                  <a:t>Global Bit-Line Ba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95" name="TextBox 241"/>
          <p:cNvSpPr/>
          <p:nvPr/>
        </p:nvSpPr>
        <p:spPr>
          <a:xfrm>
            <a:off x="1676520" y="54100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vided bit line approach with 16 bit cells per local bit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owsy Cac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Content Placeholder 3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50044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8" name="TextBox 4"/>
          <p:cNvSpPr/>
          <p:nvPr/>
        </p:nvSpPr>
        <p:spPr>
          <a:xfrm>
            <a:off x="1523880" y="518148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extra 6t bit cell holds whether block is asleep or awake and selects corresponding V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s extra dc-dc converters on c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rizontal bit cell to maintain square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should have learned SK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3" descr="6tlayout.PNG"/>
          <p:cNvPicPr/>
          <p:nvPr/>
        </p:nvPicPr>
        <p:blipFill>
          <a:blip r:embed="rId1"/>
          <a:stretch/>
        </p:blipFill>
        <p:spPr>
          <a:xfrm>
            <a:off x="762120" y="3581280"/>
            <a:ext cx="3887640" cy="243360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4" descr="blocklayout.PNG"/>
          <p:cNvPicPr/>
          <p:nvPr/>
        </p:nvPicPr>
        <p:blipFill>
          <a:blip r:embed="rId2"/>
          <a:stretch/>
        </p:blipFill>
        <p:spPr>
          <a:xfrm>
            <a:off x="5029200" y="3581280"/>
            <a:ext cx="3252960" cy="254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i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ck generation – iterated through 3 designs before finally settling on a pulsed NOR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ing sense amp enable dr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8:16:21Z</dcterms:created>
  <dc:creator>Andrew Ashworth</dc:creator>
  <dc:description/>
  <dc:language>en-US</dc:language>
  <cp:lastModifiedBy>lcuser</cp:lastModifiedBy>
  <dcterms:modified xsi:type="dcterms:W3CDTF">2008-12-04T16:35:05Z</dcterms:modified>
  <cp:revision>42</cp:revision>
  <dc:subject/>
  <dc:title>Low-Power SRAM Using 0.5 um Technology</dc:title>
</cp:coreProperties>
</file>